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4375080"/>
            <a:ext cx="51163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43BFB6-70CE-4DD3-B67B-26B28EDD8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2040" y="4375080"/>
            <a:ext cx="51163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2040" y="4375080"/>
            <a:ext cx="51163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collegeassembly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BCB-FF07-4A48-A7AB-DE885FDD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B82-0E50-4816-B936-A64B7B9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EDA-BCDE-43D2-AB5E-868AD0E4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ED7-BC4F-4501-B239-4A816D6F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AE9-6B7B-4A4E-86F6-E672298B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B4C-15F4-42BD-B332-34AD8BDA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B25-78C1-4838-8D3B-95A3F1D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A38-A14A-453D-87F1-8A98CAD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2F2-321D-48C9-8D30-F17A3C6A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3F9-7D21-4342-AA2B-87A05877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CD6-6E10-41D7-86A9-71F7027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0F5-FCA2-4831-88CE-6103E8EB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4EA-5669-498D-96DC-8182EE93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Technology and the World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341784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le W. Jorge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va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post.economics.harvard.edu/faculty/jorgens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004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048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2096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0200" y="428760"/>
            <a:ext cx="3346560" cy="1069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763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ital Input Contribution of Information Technology by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0640" y="628812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68240" y="6283440"/>
            <a:ext cx="132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0880" y="62848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952720" y="6267600"/>
            <a:ext cx="15228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81400" y="6267600"/>
            <a:ext cx="152640" cy="22860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57920" y="6267600"/>
            <a:ext cx="152280" cy="228600"/>
          </a:xfrm>
          <a:prstGeom prst="rect">
            <a:avLst/>
          </a:prstGeom>
          <a:solidFill>
            <a:srgbClr val="8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241200" y="473040"/>
            <a:ext cx="866160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914920" y="6335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Capit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47960" y="632160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Capit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85880" y="6346800"/>
            <a:ext cx="304920" cy="2286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51320" y="6345360"/>
            <a:ext cx="30492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763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ital Input Contribution of Information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1200" y="473040"/>
            <a:ext cx="866160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252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LD GROWTH RESURGEN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IT Investment and Productivity Grow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460836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BOR INPUT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urs Worked and Labor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17524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TAL FACTOR PRODU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-Production versus Non-IT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28880" y="3276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URCES OF ECONOMIC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Input, Labor Input, and TF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200160"/>
            <a:ext cx="9144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ributions of Information Technology to Total Factor Productivity Grow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ibutions are average annual relative price changes, weighted by average nominal output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6120" y="6315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47520" y="63151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6340320"/>
            <a:ext cx="304920" cy="228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64200" y="6340320"/>
            <a:ext cx="304560" cy="228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228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urces of Gross Domestic Product Grow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48240" y="601992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94280" y="6035760"/>
            <a:ext cx="159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39800" y="60372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7920" y="6035760"/>
            <a:ext cx="144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780680" y="6037200"/>
            <a:ext cx="106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2120" y="6019920"/>
            <a:ext cx="15228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09960" y="6019920"/>
            <a:ext cx="152280" cy="2286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49720" y="6019920"/>
            <a:ext cx="15228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59280" y="6018120"/>
            <a:ext cx="15264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93120" y="6019920"/>
            <a:ext cx="152280" cy="228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2671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228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urces of Gross Domestic Product Grow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48240" y="601992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94280" y="6035760"/>
            <a:ext cx="159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9800" y="60372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7920" y="6035760"/>
            <a:ext cx="144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80680" y="6037200"/>
            <a:ext cx="106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2120" y="6019920"/>
            <a:ext cx="15228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09960" y="6019920"/>
            <a:ext cx="152280" cy="2286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49720" y="6019920"/>
            <a:ext cx="15228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59280" y="6018120"/>
            <a:ext cx="15264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3120" y="6019920"/>
            <a:ext cx="152280" cy="228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09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conomic Growth in the Information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52760" y="1295280"/>
            <a:ext cx="4038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s of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1880" y="23623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NFORMATION 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er, Better, Cheap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505320"/>
            <a:ext cx="65534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INFORMATION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Prices and the Cost of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62040" y="4495680"/>
            <a:ext cx="6019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LD GROWTH RESURG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nvestment and Productivity Grow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5638680"/>
            <a:ext cx="6172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CONOMICS ON INTERNET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w Research Agen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S ON INTERNET TIM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w Research Ag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7960" y="5334120"/>
            <a:ext cx="86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 IT and the semiconductor industry: permanent versus transitory contributions to economic grow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1905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low Paradox -- we see computers everywhere but in the productivity statistics -- versus the Information 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" y="3048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ty Valuations and Growth Prospects: accumulation of intangible assets versus irrational exube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8600" y="4162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dening Wage Inequality:capital-skill complementarity versus skill-biased technic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AG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, Better,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3280" y="1351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ORE'S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transistors on a chip doubles every 12-24 months. (Itanium 2 Processor, released November 8, 2004, has 592 million transistor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5024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A Annual Report 200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978, a commercial flight between New York and Paris cost $900 and took seven hours. If the principles of Moore's Law were applied to the airline industry, that flight would now cost about a penny and take less than one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1240" y="262584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VENTION OF THE TRANSIS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emiconductor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9440" y="38512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NTEGRATED CIRC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y Chips; Logic C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44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537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No Exponential is Forever, Gordon Moore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p://download.intel.com/research/silicon/Gordon_Moore_ISSCC_021003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LDING QUALITY CONSTA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ched Models and Hedon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080" y="4724280"/>
            <a:ext cx="8458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packaged, Custom, and Own-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680" y="1523880"/>
            <a:ext cx="8001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MICONDUCTOR PRICE INDEX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ory and Logic C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3440" y="2590920"/>
            <a:ext cx="6477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TER PRICE INDEX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EA-IBM Collabo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2040" y="3733920"/>
            <a:ext cx="6019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CATIONS EQUIP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minal, Switching, and Transmi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36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lative Prices of Computers and Semiconductors, 1959-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rice indexes are divided by the output pric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3720" y="62992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64240" y="62992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36200" y="6299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8760" y="632448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6451560"/>
            <a:ext cx="507960" cy="25560"/>
          </a:xfrm>
          <a:prstGeom prst="line">
            <a:avLst/>
          </a:prstGeom>
          <a:ln cap="sq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06760" y="6311880"/>
            <a:ext cx="22860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54480" y="6438960"/>
            <a:ext cx="533520" cy="0"/>
          </a:xfrm>
          <a:prstGeom prst="line">
            <a:avLst/>
          </a:prstGeom>
          <a:ln cap="sq"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6311880"/>
            <a:ext cx="228600" cy="228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6438960"/>
            <a:ext cx="533520" cy="0"/>
          </a:xfrm>
          <a:prstGeom prst="line">
            <a:avLst/>
          </a:prstGeom>
          <a:ln cap="sq"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05740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457200" y="270000"/>
            <a:ext cx="9142920" cy="6665400"/>
            <a:chOff x="-457200" y="270000"/>
            <a:chExt cx="9142920" cy="6665400"/>
          </a:xfrm>
        </p:grpSpPr>
        <p:sp>
          <p:nvSpPr>
            <p:cNvPr id="87" name=""/>
            <p:cNvSpPr/>
            <p:nvPr/>
          </p:nvSpPr>
          <p:spPr>
            <a:xfrm>
              <a:off x="-457200" y="6645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658480" y="3473640"/>
              <a:ext cx="2718720" cy="2032920"/>
              <a:chOff x="5658480" y="3473640"/>
              <a:chExt cx="2718720" cy="2032920"/>
            </a:xfrm>
          </p:grpSpPr>
          <p:sp>
            <p:nvSpPr>
              <p:cNvPr id="89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898720" y="1187280"/>
              <a:ext cx="4844160" cy="2682000"/>
            </a:xfrm>
            <a:custGeom>
              <a:avLst/>
              <a:gdLst/>
              <a:ahLst/>
              <a:rect l="l" t="t" r="r" b="b"/>
              <a:pathLst>
                <a:path w="5964" h="2695">
                  <a:moveTo>
                    <a:pt x="5964" y="2695"/>
                  </a:moveTo>
                  <a:lnTo>
                    <a:pt x="4760" y="2169"/>
                  </a:lnTo>
                  <a:lnTo>
                    <a:pt x="3557" y="1632"/>
                  </a:lnTo>
                  <a:lnTo>
                    <a:pt x="2379" y="1063"/>
                  </a:lnTo>
                  <a:lnTo>
                    <a:pt x="1191" y="525"/>
                  </a:lnTo>
                  <a:lnTo>
                    <a:pt x="0" y="0"/>
                  </a:lnTo>
                  <a:lnTo>
                    <a:pt x="5964" y="269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93680" y="1179000"/>
              <a:ext cx="4852080" cy="2702520"/>
            </a:xfrm>
            <a:custGeom>
              <a:avLst/>
              <a:gdLst/>
              <a:ahLst/>
              <a:rect l="l" t="t" r="r" b="b"/>
              <a:pathLst>
                <a:path w="5973" h="2715">
                  <a:moveTo>
                    <a:pt x="5966" y="2715"/>
                  </a:moveTo>
                  <a:lnTo>
                    <a:pt x="5973" y="2695"/>
                  </a:lnTo>
                  <a:lnTo>
                    <a:pt x="4770" y="2169"/>
                  </a:lnTo>
                  <a:lnTo>
                    <a:pt x="3569" y="1630"/>
                  </a:lnTo>
                  <a:lnTo>
                    <a:pt x="2389" y="1065"/>
                  </a:lnTo>
                  <a:lnTo>
                    <a:pt x="1197" y="52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192" y="541"/>
                  </a:lnTo>
                  <a:lnTo>
                    <a:pt x="2385" y="1081"/>
                  </a:lnTo>
                  <a:lnTo>
                    <a:pt x="3559" y="1650"/>
                  </a:lnTo>
                  <a:lnTo>
                    <a:pt x="4762" y="2189"/>
                  </a:lnTo>
                  <a:lnTo>
                    <a:pt x="5966" y="271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23440" y="2140200"/>
              <a:ext cx="123120" cy="160920"/>
            </a:xfrm>
            <a:custGeom>
              <a:avLst/>
              <a:gdLst/>
              <a:ahLst/>
              <a:rect l="l" t="t" r="r" b="b"/>
              <a:pathLst>
                <a:path w="152" h="162">
                  <a:moveTo>
                    <a:pt x="75" y="0"/>
                  </a:moveTo>
                  <a:lnTo>
                    <a:pt x="0" y="162"/>
                  </a:lnTo>
                  <a:lnTo>
                    <a:pt x="152" y="16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80120" y="1603440"/>
              <a:ext cx="124920" cy="16272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77" y="0"/>
                  </a:moveTo>
                  <a:lnTo>
                    <a:pt x="0" y="164"/>
                  </a:lnTo>
                  <a:lnTo>
                    <a:pt x="154" y="16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37000" y="1702440"/>
              <a:ext cx="4519080" cy="2742120"/>
            </a:xfrm>
            <a:custGeom>
              <a:avLst/>
              <a:gdLst/>
              <a:ahLst/>
              <a:rect l="l" t="t" r="r" b="b"/>
              <a:pathLst>
                <a:path w="5565" h="2757">
                  <a:moveTo>
                    <a:pt x="5557" y="2757"/>
                  </a:moveTo>
                  <a:lnTo>
                    <a:pt x="5565" y="2737"/>
                  </a:lnTo>
                  <a:lnTo>
                    <a:pt x="4387" y="2170"/>
                  </a:lnTo>
                  <a:lnTo>
                    <a:pt x="3200" y="1648"/>
                  </a:lnTo>
                  <a:lnTo>
                    <a:pt x="2006" y="1105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998" y="1125"/>
                  </a:lnTo>
                  <a:lnTo>
                    <a:pt x="3190" y="1662"/>
                  </a:lnTo>
                  <a:lnTo>
                    <a:pt x="4381" y="2188"/>
                  </a:lnTo>
                  <a:lnTo>
                    <a:pt x="5557" y="2757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58440" y="658080"/>
              <a:ext cx="6815880" cy="4287960"/>
              <a:chOff x="1558440" y="658080"/>
              <a:chExt cx="6815880" cy="4287960"/>
            </a:xfrm>
          </p:grpSpPr>
          <p:sp>
            <p:nvSpPr>
              <p:cNvPr id="97" name=""/>
              <p:cNvSpPr/>
              <p:nvPr/>
            </p:nvSpPr>
            <p:spPr>
              <a:xfrm>
                <a:off x="1558440" y="4942080"/>
                <a:ext cx="6815880" cy="39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58440" y="4428720"/>
                <a:ext cx="6815880" cy="39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8440" y="386352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58440" y="3345840"/>
                <a:ext cx="6815880" cy="21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58440" y="2806920"/>
                <a:ext cx="6815880" cy="39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58440" y="225000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58440" y="171072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58440" y="1193040"/>
                <a:ext cx="6815880" cy="21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58440" y="65808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90052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34960" y="52668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449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67120" y="538200"/>
              <a:ext cx="288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68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1008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336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316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282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5444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512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010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16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42880" y="552240"/>
              <a:ext cx="32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55000" y="540720"/>
              <a:ext cx="1440" cy="50540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2520" y="662040"/>
              <a:ext cx="6861240" cy="48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2840" y="281520"/>
              <a:ext cx="33624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5560" y="343440"/>
              <a:ext cx="2696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5560" y="34920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4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9520" y="3096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1120" y="273960"/>
              <a:ext cx="337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600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7440" y="34164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72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9240" y="2995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26240" y="273960"/>
              <a:ext cx="3344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9932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97520" y="341640"/>
              <a:ext cx="2156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84360" y="29952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8960" y="2700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5280" y="32940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33336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4560" y="339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60680" y="29196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57640" y="27576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33960" y="335880"/>
              <a:ext cx="2660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33960" y="34560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3240" y="3513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17200" y="305640"/>
              <a:ext cx="60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28920" y="291960"/>
              <a:ext cx="3362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0560" y="35136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056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984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7400" y="31752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79320" y="291960"/>
              <a:ext cx="394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53840" y="34740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5384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5312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9240" y="31356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31480" y="165276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8000" y="2188080"/>
              <a:ext cx="8604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51360" y="2745360"/>
              <a:ext cx="8280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24080" y="3284640"/>
              <a:ext cx="8280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0480" y="380412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0880" y="1018080"/>
              <a:ext cx="133200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4920" y="1087560"/>
              <a:ext cx="1072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4560" y="109728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1994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6320" y="9223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200" y="4368960"/>
              <a:ext cx="73080" cy="1033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8520" y="1625040"/>
              <a:ext cx="10137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720" y="1686960"/>
              <a:ext cx="12441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48720" y="1692720"/>
              <a:ext cx="1071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8360" y="170244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1997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0480" y="17024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5360" y="270936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64920" y="324864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97760" y="4319280"/>
              <a:ext cx="124920" cy="166680"/>
            </a:xfrm>
            <a:custGeom>
              <a:avLst/>
              <a:gdLst/>
              <a:ahLst/>
              <a:rect l="l" t="t" r="r" b="b"/>
              <a:pathLst>
                <a:path w="154" h="168">
                  <a:moveTo>
                    <a:pt x="77" y="0"/>
                  </a:moveTo>
                  <a:lnTo>
                    <a:pt x="0" y="168"/>
                  </a:lnTo>
                  <a:lnTo>
                    <a:pt x="154" y="16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39440" y="3752280"/>
              <a:ext cx="121320" cy="164880"/>
            </a:xfrm>
            <a:custGeom>
              <a:avLst/>
              <a:gdLst/>
              <a:ahLst/>
              <a:rect l="l" t="t" r="r" b="b"/>
              <a:pathLst>
                <a:path w="150" h="166">
                  <a:moveTo>
                    <a:pt x="73" y="0"/>
                  </a:moveTo>
                  <a:lnTo>
                    <a:pt x="0" y="166"/>
                  </a:lnTo>
                  <a:lnTo>
                    <a:pt x="15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2960" y="2207880"/>
              <a:ext cx="7128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2680" y="239112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55440" y="2769480"/>
              <a:ext cx="6984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3480" y="3292200"/>
              <a:ext cx="6984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78920" y="381168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67960" y="2563920"/>
              <a:ext cx="177552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1040" y="2628000"/>
              <a:ext cx="17330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9240" y="2634120"/>
              <a:ext cx="1611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9960" y="2641680"/>
              <a:ext cx="159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66"/>
                  </a:solidFill>
                  <a:latin typeface="Arial"/>
                </a:rPr>
                <a:t>1998 / 1999 I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53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39400" y="4806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51960" y="50868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9400" y="10080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51960" y="103212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39400" y="152352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51960" y="15512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39400" y="205848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51960" y="20865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9400" y="2620080"/>
              <a:ext cx="551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519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4440" y="3165120"/>
              <a:ext cx="550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5560" y="318888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86560" y="3682800"/>
              <a:ext cx="551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51960" y="37044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86560" y="4239720"/>
              <a:ext cx="55188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1960" y="426564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86560" y="4765320"/>
              <a:ext cx="551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51960" y="47887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86560" y="532440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-549000" y="2825640"/>
              <a:ext cx="24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inimum Feature Size (n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640" y="1828080"/>
              <a:ext cx="276120" cy="22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04280" y="3276360"/>
              <a:ext cx="104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DRAM Hal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664920" y="21877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itch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7600" y="544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7600" y="546480"/>
              <a:ext cx="3247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7240" y="554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37600" y="106776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37600" y="10738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37240" y="108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37600" y="158940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37600" y="158940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7240" y="159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7600" y="212220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37600" y="21286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37240" y="213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37600" y="2677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37600" y="26834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7240" y="2691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4440" y="322704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5880" y="32288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480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1920" y="374220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33360" y="37440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32640" y="3750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1920" y="429732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3360" y="430740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32640" y="4315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31920" y="482472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3360" y="483084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32640" y="4838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31920" y="538200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33360" y="53838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32640" y="538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51960" y="53460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2840" y="554508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5560" y="5604480"/>
              <a:ext cx="2696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5560" y="56109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4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99520" y="557136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81120" y="5537520"/>
              <a:ext cx="337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600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744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672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39240" y="55630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26240" y="5537520"/>
              <a:ext cx="334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932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97520" y="560088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9680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4360" y="55630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8960" y="55332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559296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75280" y="55947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4560" y="5602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0680" y="55551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57640" y="553932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33960" y="5596920"/>
              <a:ext cx="266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3396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3324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17200" y="5567040"/>
              <a:ext cx="601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28920" y="555516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00560" y="561492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00560" y="56167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99840" y="5625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87400" y="55789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9320" y="5555160"/>
              <a:ext cx="394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3840" y="5608800"/>
              <a:ext cx="267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3840" y="56149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3120" y="5622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39240" y="55771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37000" y="1702440"/>
              <a:ext cx="4855320" cy="2732040"/>
            </a:xfrm>
            <a:custGeom>
              <a:avLst/>
              <a:gdLst/>
              <a:ahLst/>
              <a:rect l="l" t="t" r="r" b="b"/>
              <a:pathLst>
                <a:path w="5978" h="2745">
                  <a:moveTo>
                    <a:pt x="5970" y="2745"/>
                  </a:moveTo>
                  <a:lnTo>
                    <a:pt x="5978" y="2725"/>
                  </a:lnTo>
                  <a:lnTo>
                    <a:pt x="4774" y="2170"/>
                  </a:lnTo>
                  <a:lnTo>
                    <a:pt x="3597" y="1648"/>
                  </a:lnTo>
                  <a:lnTo>
                    <a:pt x="2405" y="1105"/>
                  </a:lnTo>
                  <a:lnTo>
                    <a:pt x="1599" y="732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593" y="753"/>
                  </a:lnTo>
                  <a:lnTo>
                    <a:pt x="1593" y="743"/>
                  </a:lnTo>
                  <a:lnTo>
                    <a:pt x="1593" y="753"/>
                  </a:lnTo>
                  <a:lnTo>
                    <a:pt x="2397" y="1127"/>
                  </a:lnTo>
                  <a:lnTo>
                    <a:pt x="3589" y="1664"/>
                  </a:lnTo>
                  <a:lnTo>
                    <a:pt x="4763" y="2190"/>
                  </a:lnTo>
                  <a:lnTo>
                    <a:pt x="5970" y="27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7400" y="3300480"/>
              <a:ext cx="6562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792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1440" y="3300480"/>
              <a:ext cx="6120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976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18800" y="36446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67360" y="2230200"/>
              <a:ext cx="27360" cy="435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4" y="43"/>
                  </a:moveTo>
                  <a:lnTo>
                    <a:pt x="34" y="10"/>
                  </a:lnTo>
                  <a:lnTo>
                    <a:pt x="22" y="0"/>
                  </a:lnTo>
                  <a:lnTo>
                    <a:pt x="0" y="38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25640" y="4617720"/>
              <a:ext cx="143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77080" y="460764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37600" y="4890240"/>
              <a:ext cx="12117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6560" y="488448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633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98480" y="526680"/>
              <a:ext cx="288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2096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34560" y="349200"/>
              <a:ext cx="215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33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34560" y="561096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3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2240" y="711720"/>
              <a:ext cx="12571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06640" y="715680"/>
              <a:ext cx="10720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6280" y="72576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2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07640" y="649800"/>
              <a:ext cx="989280" cy="565200"/>
            </a:xfrm>
            <a:custGeom>
              <a:avLst/>
              <a:gdLst/>
              <a:ahLst/>
              <a:rect l="l" t="t" r="r" b="b"/>
              <a:pathLst>
                <a:path w="1217" h="569">
                  <a:moveTo>
                    <a:pt x="19" y="0"/>
                  </a:moveTo>
                  <a:lnTo>
                    <a:pt x="0" y="44"/>
                  </a:lnTo>
                  <a:lnTo>
                    <a:pt x="1197" y="569"/>
                  </a:lnTo>
                  <a:lnTo>
                    <a:pt x="1217" y="52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504160" y="793440"/>
              <a:ext cx="374400" cy="182160"/>
              <a:chOff x="2504160" y="793440"/>
              <a:chExt cx="374400" cy="182160"/>
            </a:xfrm>
          </p:grpSpPr>
          <p:sp>
            <p:nvSpPr>
              <p:cNvPr id="300" name=""/>
              <p:cNvSpPr/>
              <p:nvPr/>
            </p:nvSpPr>
            <p:spPr>
              <a:xfrm>
                <a:off x="2648160" y="864720"/>
                <a:ext cx="2304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4160" y="793440"/>
                <a:ext cx="149400" cy="18216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84" y="0"/>
                    </a:moveTo>
                    <a:lnTo>
                      <a:pt x="0" y="90"/>
                    </a:lnTo>
                    <a:lnTo>
                      <a:pt x="184" y="18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857600" y="562320"/>
              <a:ext cx="110160" cy="21672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68" y="0"/>
                  </a:moveTo>
                  <a:lnTo>
                    <a:pt x="0" y="109"/>
                  </a:lnTo>
                  <a:lnTo>
                    <a:pt x="68" y="218"/>
                  </a:lnTo>
                  <a:lnTo>
                    <a:pt x="137" y="109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1800" y="274536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19800" y="32806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83560" y="2243520"/>
              <a:ext cx="2655720" cy="2234880"/>
            </a:xfrm>
            <a:custGeom>
              <a:avLst/>
              <a:gdLst/>
              <a:ahLst/>
              <a:rect l="l" t="t" r="r" b="b"/>
              <a:pathLst>
                <a:path w="3268" h="2247">
                  <a:moveTo>
                    <a:pt x="25" y="0"/>
                  </a:moveTo>
                  <a:lnTo>
                    <a:pt x="0" y="37"/>
                  </a:lnTo>
                  <a:lnTo>
                    <a:pt x="3242" y="2247"/>
                  </a:lnTo>
                  <a:lnTo>
                    <a:pt x="3268" y="220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477040" y="3324240"/>
              <a:ext cx="967680" cy="552600"/>
              <a:chOff x="5477040" y="3324240"/>
              <a:chExt cx="967680" cy="552600"/>
            </a:xfrm>
          </p:grpSpPr>
          <p:sp>
            <p:nvSpPr>
              <p:cNvPr id="307" name=""/>
              <p:cNvSpPr/>
              <p:nvPr/>
            </p:nvSpPr>
            <p:spPr>
              <a:xfrm>
                <a:off x="5477040" y="33242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46520" y="336204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4"/>
                    </a:lnTo>
                    <a:lnTo>
                      <a:pt x="44" y="63"/>
                    </a:lnTo>
                    <a:lnTo>
                      <a:pt x="64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17800" y="33994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88000" y="3439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59280" y="3475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29480" y="35128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00760" y="35510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70600" y="35884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20" y="0"/>
                    </a:moveTo>
                    <a:lnTo>
                      <a:pt x="0" y="44"/>
                    </a:lnTo>
                    <a:lnTo>
                      <a:pt x="43" y="64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40440" y="362448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12080" y="36640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81560" y="3701880"/>
                <a:ext cx="5220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2840" y="373968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23040" y="377712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94320" y="3813480"/>
                <a:ext cx="5040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940400" y="711720"/>
              <a:ext cx="943560" cy="506880"/>
            </a:xfrm>
            <a:custGeom>
              <a:avLst/>
              <a:gdLst/>
              <a:ahLst/>
              <a:rect l="l" t="t" r="r" b="b"/>
              <a:pathLst>
                <a:path w="1162" h="509">
                  <a:moveTo>
                    <a:pt x="14" y="0"/>
                  </a:moveTo>
                  <a:lnTo>
                    <a:pt x="0" y="33"/>
                  </a:lnTo>
                  <a:lnTo>
                    <a:pt x="1148" y="509"/>
                  </a:lnTo>
                  <a:lnTo>
                    <a:pt x="1162" y="47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440" y="1189080"/>
              <a:ext cx="646200" cy="557280"/>
            </a:xfrm>
            <a:custGeom>
              <a:avLst/>
              <a:gdLst/>
              <a:ahLst/>
              <a:rect l="l" t="t" r="r" b="b"/>
              <a:pathLst>
                <a:path w="796" h="559">
                  <a:moveTo>
                    <a:pt x="20" y="0"/>
                  </a:moveTo>
                  <a:lnTo>
                    <a:pt x="0" y="29"/>
                  </a:lnTo>
                  <a:lnTo>
                    <a:pt x="777" y="559"/>
                  </a:lnTo>
                  <a:lnTo>
                    <a:pt x="796" y="5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0920" y="3692520"/>
              <a:ext cx="133344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86800" y="3746160"/>
              <a:ext cx="948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1600" y="3362400"/>
              <a:ext cx="25387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34120" y="3399840"/>
              <a:ext cx="269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35560" y="3407760"/>
              <a:ext cx="24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International SEMA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30720" y="4699440"/>
              <a:ext cx="365004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6320" y="4767120"/>
              <a:ext cx="33462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01720" y="4776840"/>
              <a:ext cx="32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Area for Future ITRS Accel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43080" y="4251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3"/>
                  </a:lnTo>
                  <a:lnTo>
                    <a:pt x="158" y="0"/>
                  </a:lnTo>
                  <a:lnTo>
                    <a:pt x="130" y="143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01560" y="3684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5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5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84960" y="4768920"/>
              <a:ext cx="256320" cy="346320"/>
            </a:xfrm>
            <a:custGeom>
              <a:avLst/>
              <a:gdLst/>
              <a:ahLst/>
              <a:rect l="l" t="t" r="r" b="b"/>
              <a:pathLst>
                <a:path w="317" h="348">
                  <a:moveTo>
                    <a:pt x="317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1" y="142"/>
                  </a:lnTo>
                  <a:lnTo>
                    <a:pt x="0" y="174"/>
                  </a:lnTo>
                  <a:lnTo>
                    <a:pt x="131" y="205"/>
                  </a:lnTo>
                  <a:lnTo>
                    <a:pt x="158" y="348"/>
                  </a:lnTo>
                  <a:lnTo>
                    <a:pt x="186" y="205"/>
                  </a:lnTo>
                  <a:lnTo>
                    <a:pt x="317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6120" y="533628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6727680" y="4368960"/>
              <a:ext cx="1255320" cy="1087920"/>
              <a:chOff x="6727680" y="4368960"/>
              <a:chExt cx="1255320" cy="1087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727680" y="4368960"/>
                <a:ext cx="149400" cy="143280"/>
              </a:xfrm>
              <a:custGeom>
                <a:avLst/>
                <a:gdLst/>
                <a:ahLst/>
                <a:rect l="l" t="t" r="r" b="b"/>
                <a:pathLst>
                  <a:path w="183" h="144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3" y="10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49800" y="4557960"/>
                <a:ext cx="149400" cy="14292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28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4" y="10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70840" y="4746960"/>
                <a:ext cx="147600" cy="1450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28" y="0"/>
                    </a:moveTo>
                    <a:lnTo>
                      <a:pt x="0" y="38"/>
                    </a:lnTo>
                    <a:lnTo>
                      <a:pt x="154" y="146"/>
                    </a:lnTo>
                    <a:lnTo>
                      <a:pt x="182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90080" y="4933800"/>
                <a:ext cx="149400" cy="14724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6"/>
                    </a:lnTo>
                    <a:lnTo>
                      <a:pt x="184" y="10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12560" y="5122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8" y="0"/>
                    </a:moveTo>
                    <a:lnTo>
                      <a:pt x="0" y="37"/>
                    </a:lnTo>
                    <a:lnTo>
                      <a:pt x="157" y="146"/>
                    </a:lnTo>
                    <a:lnTo>
                      <a:pt x="184" y="10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33600" y="5311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28" y="0"/>
                    </a:moveTo>
                    <a:lnTo>
                      <a:pt x="0" y="38"/>
                    </a:lnTo>
                    <a:lnTo>
                      <a:pt x="156" y="147"/>
                    </a:lnTo>
                    <a:lnTo>
                      <a:pt x="184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440040" y="3857760"/>
              <a:ext cx="952920" cy="586440"/>
              <a:chOff x="6440040" y="3857760"/>
              <a:chExt cx="952920" cy="586440"/>
            </a:xfrm>
          </p:grpSpPr>
          <p:sp>
            <p:nvSpPr>
              <p:cNvPr id="343" name=""/>
              <p:cNvSpPr/>
              <p:nvPr/>
            </p:nvSpPr>
            <p:spPr>
              <a:xfrm>
                <a:off x="6440040" y="3857760"/>
                <a:ext cx="500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08080" y="389736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77560" y="393912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47760" y="397656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1"/>
                    </a:lnTo>
                    <a:lnTo>
                      <a:pt x="43" y="63"/>
                    </a:lnTo>
                    <a:lnTo>
                      <a:pt x="63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15800" y="40186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87080" y="406044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1"/>
                    </a:lnTo>
                    <a:lnTo>
                      <a:pt x="41" y="61"/>
                    </a:lnTo>
                    <a:lnTo>
                      <a:pt x="61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55480" y="410004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25320" y="414000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95160" y="417960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2"/>
                    </a:lnTo>
                    <a:lnTo>
                      <a:pt x="43" y="63"/>
                    </a:lnTo>
                    <a:lnTo>
                      <a:pt x="63" y="2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65000" y="422136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34840" y="4263120"/>
                <a:ext cx="50400" cy="597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9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05040" y="43009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73080" y="4342680"/>
                <a:ext cx="518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44360" y="438264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20" y="0"/>
                    </a:moveTo>
                    <a:lnTo>
                      <a:pt x="0" y="41"/>
                    </a:lnTo>
                    <a:lnTo>
                      <a:pt x="42" y="63"/>
                    </a:lnTo>
                    <a:lnTo>
                      <a:pt x="62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413120" y="4422600"/>
              <a:ext cx="975600" cy="527040"/>
              <a:chOff x="7413120" y="4422600"/>
              <a:chExt cx="975600" cy="527040"/>
            </a:xfrm>
          </p:grpSpPr>
          <p:sp>
            <p:nvSpPr>
              <p:cNvPr id="358" name=""/>
              <p:cNvSpPr/>
              <p:nvPr/>
            </p:nvSpPr>
            <p:spPr>
              <a:xfrm>
                <a:off x="7413120" y="44226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84400" y="44560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54240" y="449424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27320" y="45298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97160" y="4565880"/>
                <a:ext cx="50040" cy="59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68800" y="46015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8" y="0"/>
                    </a:moveTo>
                    <a:lnTo>
                      <a:pt x="0" y="43"/>
                    </a:lnTo>
                    <a:lnTo>
                      <a:pt x="46" y="63"/>
                    </a:lnTo>
                    <a:lnTo>
                      <a:pt x="63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840080" y="463716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11720" y="467316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4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83000" y="47088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52480" y="474444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8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1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24120" y="4780440"/>
                <a:ext cx="522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8" y="0"/>
                    </a:moveTo>
                    <a:lnTo>
                      <a:pt x="0" y="43"/>
                    </a:lnTo>
                    <a:lnTo>
                      <a:pt x="45" y="61"/>
                    </a:lnTo>
                    <a:lnTo>
                      <a:pt x="63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95400" y="4816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67400" y="48524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7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36880" y="4889880"/>
                <a:ext cx="51840" cy="59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17" y="0"/>
                    </a:moveTo>
                    <a:lnTo>
                      <a:pt x="0" y="44"/>
                    </a:lnTo>
                    <a:lnTo>
                      <a:pt x="45" y="62"/>
                    </a:lnTo>
                    <a:lnTo>
                      <a:pt x="63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6393240" y="3797640"/>
              <a:ext cx="124560" cy="1393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56240" y="436500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37240" y="48844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732360" y="4440960"/>
              <a:ext cx="309960" cy="393480"/>
              <a:chOff x="6732360" y="4440960"/>
              <a:chExt cx="309960" cy="393480"/>
            </a:xfrm>
          </p:grpSpPr>
          <p:sp>
            <p:nvSpPr>
              <p:cNvPr id="376" name=""/>
              <p:cNvSpPr/>
              <p:nvPr/>
            </p:nvSpPr>
            <p:spPr>
              <a:xfrm>
                <a:off x="6732360" y="4572000"/>
                <a:ext cx="207720" cy="262440"/>
              </a:xfrm>
              <a:custGeom>
                <a:avLst/>
                <a:gdLst/>
                <a:ahLst/>
                <a:rect l="l" t="t" r="r" b="b"/>
                <a:pathLst>
                  <a:path w="255" h="265">
                    <a:moveTo>
                      <a:pt x="0" y="232"/>
                    </a:moveTo>
                    <a:lnTo>
                      <a:pt x="33" y="265"/>
                    </a:lnTo>
                    <a:lnTo>
                      <a:pt x="255" y="34"/>
                    </a:lnTo>
                    <a:lnTo>
                      <a:pt x="221" y="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58720" y="4440960"/>
                <a:ext cx="183600" cy="226080"/>
              </a:xfrm>
              <a:custGeom>
                <a:avLst/>
                <a:gdLst/>
                <a:ahLst/>
                <a:rect l="l" t="t" r="r" b="b"/>
                <a:pathLst>
                  <a:path w="225" h="227">
                    <a:moveTo>
                      <a:pt x="154" y="227"/>
                    </a:moveTo>
                    <a:lnTo>
                      <a:pt x="225" y="0"/>
                    </a:lnTo>
                    <a:lnTo>
                      <a:pt x="0" y="79"/>
                    </a:lnTo>
                    <a:lnTo>
                      <a:pt x="154" y="22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037760" y="1388160"/>
              <a:ext cx="307800" cy="379440"/>
              <a:chOff x="4037760" y="1388160"/>
              <a:chExt cx="307800" cy="379440"/>
            </a:xfrm>
          </p:grpSpPr>
          <p:sp>
            <p:nvSpPr>
              <p:cNvPr id="379" name=""/>
              <p:cNvSpPr/>
              <p:nvPr/>
            </p:nvSpPr>
            <p:spPr>
              <a:xfrm>
                <a:off x="4142880" y="1388160"/>
                <a:ext cx="202680" cy="25056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0" y="218"/>
                    </a:moveTo>
                    <a:lnTo>
                      <a:pt x="34" y="251"/>
                    </a:lnTo>
                    <a:lnTo>
                      <a:pt x="251" y="34"/>
                    </a:lnTo>
                    <a:lnTo>
                      <a:pt x="218" y="0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7760" y="1541160"/>
                <a:ext cx="183240" cy="226440"/>
              </a:xfrm>
              <a:custGeom>
                <a:avLst/>
                <a:gdLst/>
                <a:ahLst/>
                <a:rect l="l" t="t" r="r" b="b"/>
                <a:pathLst>
                  <a:path w="225" h="228">
                    <a:moveTo>
                      <a:pt x="75" y="0"/>
                    </a:moveTo>
                    <a:lnTo>
                      <a:pt x="0" y="228"/>
                    </a:lnTo>
                    <a:lnTo>
                      <a:pt x="225" y="1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270760" y="2080800"/>
              <a:ext cx="462240" cy="598320"/>
              <a:chOff x="5270760" y="2080800"/>
              <a:chExt cx="462240" cy="598320"/>
            </a:xfrm>
          </p:grpSpPr>
          <p:sp>
            <p:nvSpPr>
              <p:cNvPr id="382" name=""/>
              <p:cNvSpPr/>
              <p:nvPr/>
            </p:nvSpPr>
            <p:spPr>
              <a:xfrm>
                <a:off x="5371200" y="2080800"/>
                <a:ext cx="361800" cy="462960"/>
              </a:xfrm>
              <a:custGeom>
                <a:avLst/>
                <a:gdLst/>
                <a:ahLst/>
                <a:rect l="l" t="t" r="r" b="b"/>
                <a:pathLst>
                  <a:path w="445" h="466">
                    <a:moveTo>
                      <a:pt x="0" y="435"/>
                    </a:moveTo>
                    <a:lnTo>
                      <a:pt x="34" y="466"/>
                    </a:lnTo>
                    <a:lnTo>
                      <a:pt x="445" y="31"/>
                    </a:lnTo>
                    <a:lnTo>
                      <a:pt x="41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ef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70760" y="2452320"/>
                <a:ext cx="181440" cy="226800"/>
              </a:xfrm>
              <a:custGeom>
                <a:avLst/>
                <a:gdLst/>
                <a:ahLst/>
                <a:rect l="l" t="t" r="r" b="b"/>
                <a:pathLst>
                  <a:path w="224" h="230">
                    <a:moveTo>
                      <a:pt x="70" y="0"/>
                    </a:moveTo>
                    <a:lnTo>
                      <a:pt x="0" y="230"/>
                    </a:lnTo>
                    <a:lnTo>
                      <a:pt x="224" y="147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f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773400" y="2990160"/>
              <a:ext cx="588960" cy="663840"/>
              <a:chOff x="6773400" y="2990160"/>
              <a:chExt cx="588960" cy="663840"/>
            </a:xfrm>
          </p:grpSpPr>
          <p:sp>
            <p:nvSpPr>
              <p:cNvPr id="385" name=""/>
              <p:cNvSpPr/>
              <p:nvPr/>
            </p:nvSpPr>
            <p:spPr>
              <a:xfrm>
                <a:off x="6881760" y="2990160"/>
                <a:ext cx="480600" cy="542880"/>
              </a:xfrm>
              <a:custGeom>
                <a:avLst/>
                <a:gdLst/>
                <a:ahLst/>
                <a:rect l="l" t="t" r="r" b="b"/>
                <a:pathLst>
                  <a:path w="591" h="545">
                    <a:moveTo>
                      <a:pt x="0" y="510"/>
                    </a:moveTo>
                    <a:lnTo>
                      <a:pt x="32" y="545"/>
                    </a:lnTo>
                    <a:lnTo>
                      <a:pt x="591" y="35"/>
                    </a:lnTo>
                    <a:lnTo>
                      <a:pt x="560" y="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73400" y="3433320"/>
                <a:ext cx="186480" cy="220680"/>
              </a:xfrm>
              <a:custGeom>
                <a:avLst/>
                <a:gdLst/>
                <a:ahLst/>
                <a:rect l="l" t="t" r="r" b="b"/>
                <a:pathLst>
                  <a:path w="229" h="224">
                    <a:moveTo>
                      <a:pt x="85" y="0"/>
                    </a:moveTo>
                    <a:lnTo>
                      <a:pt x="0" y="224"/>
                    </a:lnTo>
                    <a:lnTo>
                      <a:pt x="229" y="15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507840" y="1662840"/>
              <a:ext cx="74520" cy="9504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1189080"/>
              <a:ext cx="649440" cy="519120"/>
            </a:xfrm>
            <a:custGeom>
              <a:avLst/>
              <a:gdLst/>
              <a:ahLst/>
              <a:rect l="l" t="t" r="r" b="b"/>
              <a:pathLst>
                <a:path w="800" h="521">
                  <a:moveTo>
                    <a:pt x="18" y="0"/>
                  </a:moveTo>
                  <a:lnTo>
                    <a:pt x="0" y="29"/>
                  </a:lnTo>
                  <a:lnTo>
                    <a:pt x="782" y="521"/>
                  </a:lnTo>
                  <a:lnTo>
                    <a:pt x="800" y="49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4800" y="1127520"/>
              <a:ext cx="84600" cy="127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1440" y="2220120"/>
              <a:ext cx="87480" cy="7920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28" y="0"/>
                  </a:moveTo>
                  <a:lnTo>
                    <a:pt x="0" y="40"/>
                  </a:lnTo>
                  <a:lnTo>
                    <a:pt x="28" y="79"/>
                  </a:lnTo>
                  <a:lnTo>
                    <a:pt x="81" y="79"/>
                  </a:lnTo>
                  <a:lnTo>
                    <a:pt x="109" y="40"/>
                  </a:lnTo>
                  <a:lnTo>
                    <a:pt x="8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79480" y="1704240"/>
              <a:ext cx="595800" cy="515520"/>
            </a:xfrm>
            <a:custGeom>
              <a:avLst/>
              <a:gdLst/>
              <a:ahLst/>
              <a:rect l="l" t="t" r="r" b="b"/>
              <a:pathLst>
                <a:path w="735" h="518">
                  <a:moveTo>
                    <a:pt x="20" y="0"/>
                  </a:moveTo>
                  <a:lnTo>
                    <a:pt x="0" y="30"/>
                  </a:lnTo>
                  <a:lnTo>
                    <a:pt x="715" y="518"/>
                  </a:lnTo>
                  <a:lnTo>
                    <a:pt x="735" y="48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56440" y="1746360"/>
              <a:ext cx="615600" cy="537120"/>
            </a:xfrm>
            <a:custGeom>
              <a:avLst/>
              <a:gdLst/>
              <a:ahLst/>
              <a:rect l="l" t="t" r="r" b="b"/>
              <a:pathLst>
                <a:path w="759" h="539">
                  <a:moveTo>
                    <a:pt x="20" y="0"/>
                  </a:moveTo>
                  <a:lnTo>
                    <a:pt x="0" y="30"/>
                  </a:lnTo>
                  <a:lnTo>
                    <a:pt x="739" y="539"/>
                  </a:lnTo>
                  <a:lnTo>
                    <a:pt x="759" y="5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69160" y="6064560"/>
              <a:ext cx="67755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8760" y="6138000"/>
              <a:ext cx="5138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miconductor Roadmap Accele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564840" y="3660120"/>
              <a:ext cx="366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3378240"/>
              <a:ext cx="279000" cy="306360"/>
            </a:xfrm>
            <a:custGeom>
              <a:avLst/>
              <a:gdLst/>
              <a:ahLst/>
              <a:rect l="l" t="t" r="r" b="b"/>
              <a:pathLst>
                <a:path w="344" h="308">
                  <a:moveTo>
                    <a:pt x="172" y="0"/>
                  </a:moveTo>
                  <a:lnTo>
                    <a:pt x="132" y="119"/>
                  </a:lnTo>
                  <a:lnTo>
                    <a:pt x="0" y="119"/>
                  </a:lnTo>
                  <a:lnTo>
                    <a:pt x="107" y="192"/>
                  </a:lnTo>
                  <a:lnTo>
                    <a:pt x="67" y="308"/>
                  </a:lnTo>
                  <a:lnTo>
                    <a:pt x="172" y="237"/>
                  </a:lnTo>
                  <a:lnTo>
                    <a:pt x="276" y="308"/>
                  </a:lnTo>
                  <a:lnTo>
                    <a:pt x="237" y="192"/>
                  </a:lnTo>
                  <a:lnTo>
                    <a:pt x="344" y="119"/>
                  </a:lnTo>
                  <a:lnTo>
                    <a:pt x="211" y="119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5658480" y="3473640"/>
              <a:ext cx="2718720" cy="2032920"/>
              <a:chOff x="5658480" y="3473640"/>
              <a:chExt cx="2718720" cy="2032920"/>
            </a:xfrm>
          </p:grpSpPr>
          <p:sp>
            <p:nvSpPr>
              <p:cNvPr id="398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898720" y="1187280"/>
              <a:ext cx="4844160" cy="2682000"/>
            </a:xfrm>
            <a:custGeom>
              <a:avLst/>
              <a:gdLst/>
              <a:ahLst/>
              <a:rect l="l" t="t" r="r" b="b"/>
              <a:pathLst>
                <a:path w="5964" h="2695">
                  <a:moveTo>
                    <a:pt x="5964" y="2695"/>
                  </a:moveTo>
                  <a:lnTo>
                    <a:pt x="4760" y="2169"/>
                  </a:lnTo>
                  <a:lnTo>
                    <a:pt x="3557" y="1632"/>
                  </a:lnTo>
                  <a:lnTo>
                    <a:pt x="2379" y="1063"/>
                  </a:lnTo>
                  <a:lnTo>
                    <a:pt x="1191" y="525"/>
                  </a:lnTo>
                  <a:lnTo>
                    <a:pt x="0" y="0"/>
                  </a:lnTo>
                  <a:lnTo>
                    <a:pt x="5964" y="269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93680" y="1179000"/>
              <a:ext cx="4852080" cy="2702520"/>
            </a:xfrm>
            <a:custGeom>
              <a:avLst/>
              <a:gdLst/>
              <a:ahLst/>
              <a:rect l="l" t="t" r="r" b="b"/>
              <a:pathLst>
                <a:path w="5973" h="2715">
                  <a:moveTo>
                    <a:pt x="5966" y="2715"/>
                  </a:moveTo>
                  <a:lnTo>
                    <a:pt x="5973" y="2695"/>
                  </a:lnTo>
                  <a:lnTo>
                    <a:pt x="4770" y="2169"/>
                  </a:lnTo>
                  <a:lnTo>
                    <a:pt x="3569" y="1630"/>
                  </a:lnTo>
                  <a:lnTo>
                    <a:pt x="2389" y="1065"/>
                  </a:lnTo>
                  <a:lnTo>
                    <a:pt x="1197" y="52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192" y="541"/>
                  </a:lnTo>
                  <a:lnTo>
                    <a:pt x="2385" y="1081"/>
                  </a:lnTo>
                  <a:lnTo>
                    <a:pt x="3559" y="1650"/>
                  </a:lnTo>
                  <a:lnTo>
                    <a:pt x="4762" y="2189"/>
                  </a:lnTo>
                  <a:lnTo>
                    <a:pt x="5966" y="271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23440" y="2140200"/>
              <a:ext cx="123120" cy="160920"/>
            </a:xfrm>
            <a:custGeom>
              <a:avLst/>
              <a:gdLst/>
              <a:ahLst/>
              <a:rect l="l" t="t" r="r" b="b"/>
              <a:pathLst>
                <a:path w="152" h="162">
                  <a:moveTo>
                    <a:pt x="75" y="0"/>
                  </a:moveTo>
                  <a:lnTo>
                    <a:pt x="0" y="162"/>
                  </a:lnTo>
                  <a:lnTo>
                    <a:pt x="152" y="16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80120" y="1603440"/>
              <a:ext cx="124920" cy="16272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77" y="0"/>
                  </a:moveTo>
                  <a:lnTo>
                    <a:pt x="0" y="164"/>
                  </a:lnTo>
                  <a:lnTo>
                    <a:pt x="154" y="16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37000" y="1702440"/>
              <a:ext cx="4519080" cy="2742120"/>
            </a:xfrm>
            <a:custGeom>
              <a:avLst/>
              <a:gdLst/>
              <a:ahLst/>
              <a:rect l="l" t="t" r="r" b="b"/>
              <a:pathLst>
                <a:path w="5565" h="2757">
                  <a:moveTo>
                    <a:pt x="5557" y="2757"/>
                  </a:moveTo>
                  <a:lnTo>
                    <a:pt x="5565" y="2737"/>
                  </a:lnTo>
                  <a:lnTo>
                    <a:pt x="4387" y="2170"/>
                  </a:lnTo>
                  <a:lnTo>
                    <a:pt x="3200" y="1648"/>
                  </a:lnTo>
                  <a:lnTo>
                    <a:pt x="2006" y="1105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998" y="1125"/>
                  </a:lnTo>
                  <a:lnTo>
                    <a:pt x="3190" y="1662"/>
                  </a:lnTo>
                  <a:lnTo>
                    <a:pt x="4381" y="2188"/>
                  </a:lnTo>
                  <a:lnTo>
                    <a:pt x="5557" y="2757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58440" y="494208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8440" y="44287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8440" y="38635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58440" y="334620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58440" y="28069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58440" y="225000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58440" y="17107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8440" y="119304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58440" y="65808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58440" y="494208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58440" y="44287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58440" y="38635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58440" y="334620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58440" y="28069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58440" y="225000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58440" y="17107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58440" y="119304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58440" y="65808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0052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4960" y="52668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449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67120" y="538200"/>
              <a:ext cx="288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868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008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3336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6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316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282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5444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6512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10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116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42880" y="552240"/>
              <a:ext cx="32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55000" y="540720"/>
              <a:ext cx="1440" cy="50540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32520" y="662040"/>
              <a:ext cx="6861240" cy="48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42840" y="281520"/>
              <a:ext cx="33624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15560" y="343440"/>
              <a:ext cx="2696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15560" y="34920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14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9520" y="3096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81120" y="273960"/>
              <a:ext cx="337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600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57440" y="34164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5672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39240" y="2995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26240" y="273960"/>
              <a:ext cx="3344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9932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97520" y="341640"/>
              <a:ext cx="2156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9680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84360" y="29952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98960" y="2700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5280" y="32940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75280" y="33336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74560" y="339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0680" y="29196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57640" y="27576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33960" y="335880"/>
              <a:ext cx="2660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33960" y="34560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3240" y="3513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17200" y="305640"/>
              <a:ext cx="60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28920" y="291960"/>
              <a:ext cx="3362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00560" y="35136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056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984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87400" y="31752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79320" y="291960"/>
              <a:ext cx="394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53840" y="34740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5384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12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39240" y="31356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31480" y="165276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88000" y="2188080"/>
              <a:ext cx="8604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51360" y="2745360"/>
              <a:ext cx="8280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24080" y="3284640"/>
              <a:ext cx="8280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0480" y="380412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10880" y="1018080"/>
              <a:ext cx="133200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14920" y="1087560"/>
              <a:ext cx="1072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14560" y="109728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1994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96320" y="9223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50200" y="4368960"/>
              <a:ext cx="73080" cy="1033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78520" y="1625040"/>
              <a:ext cx="10137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48720" y="1686960"/>
              <a:ext cx="12441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48720" y="1692720"/>
              <a:ext cx="1071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48360" y="170244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1997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30480" y="17024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85360" y="270936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64920" y="324864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97760" y="4319280"/>
              <a:ext cx="124920" cy="166680"/>
            </a:xfrm>
            <a:custGeom>
              <a:avLst/>
              <a:gdLst/>
              <a:ahLst/>
              <a:rect l="l" t="t" r="r" b="b"/>
              <a:pathLst>
                <a:path w="154" h="168">
                  <a:moveTo>
                    <a:pt x="77" y="0"/>
                  </a:moveTo>
                  <a:lnTo>
                    <a:pt x="0" y="168"/>
                  </a:lnTo>
                  <a:lnTo>
                    <a:pt x="154" y="16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39440" y="3752280"/>
              <a:ext cx="121320" cy="164880"/>
            </a:xfrm>
            <a:custGeom>
              <a:avLst/>
              <a:gdLst/>
              <a:ahLst/>
              <a:rect l="l" t="t" r="r" b="b"/>
              <a:pathLst>
                <a:path w="150" h="166">
                  <a:moveTo>
                    <a:pt x="73" y="0"/>
                  </a:moveTo>
                  <a:lnTo>
                    <a:pt x="0" y="166"/>
                  </a:lnTo>
                  <a:lnTo>
                    <a:pt x="15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52960" y="2207880"/>
              <a:ext cx="7128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239112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55440" y="2769480"/>
              <a:ext cx="6984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23480" y="3292200"/>
              <a:ext cx="6984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8920" y="381168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67960" y="2563920"/>
              <a:ext cx="177552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41040" y="2628000"/>
              <a:ext cx="17330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39240" y="2634120"/>
              <a:ext cx="1611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39960" y="2641680"/>
              <a:ext cx="159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1998 / 1999 I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653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9400" y="4806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51960" y="50868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9400" y="10080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51960" y="103212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9400" y="152352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51960" y="15512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39400" y="205848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51960" y="20865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39400" y="2620080"/>
              <a:ext cx="551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519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4440" y="3165120"/>
              <a:ext cx="550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55560" y="318888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86560" y="3682800"/>
              <a:ext cx="551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51960" y="37044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86560" y="4239720"/>
              <a:ext cx="55188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51960" y="426564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6560" y="4765320"/>
              <a:ext cx="551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51960" y="47887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86560" y="532440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6200000">
              <a:off x="387720" y="4358520"/>
              <a:ext cx="366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40" y="1828080"/>
              <a:ext cx="276120" cy="22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6200000">
              <a:off x="404280" y="3276360"/>
              <a:ext cx="104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DRAM Hal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6200000">
              <a:off x="664920" y="21877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itch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37600" y="544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37600" y="546480"/>
              <a:ext cx="3247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37240" y="554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7600" y="106776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37600" y="10738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37240" y="108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37600" y="158940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37600" y="158940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37240" y="159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37600" y="212220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37600" y="21286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37240" y="213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7600" y="2677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37600" y="26834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37240" y="2691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44440" y="322704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45880" y="32288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4480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31920" y="374220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33360" y="37440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32640" y="3750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31920" y="429732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33360" y="430740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2640" y="4315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31920" y="482472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33360" y="483084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32640" y="4838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31920" y="538200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33360" y="53838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32640" y="538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51960" y="53460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2840" y="554508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15560" y="5604480"/>
              <a:ext cx="2696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15560" y="56109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4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99520" y="557136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81120" y="5537520"/>
              <a:ext cx="337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600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5744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5672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39240" y="55630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26240" y="5537520"/>
              <a:ext cx="334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9932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97520" y="560088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9680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84360" y="55630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98960" y="55332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75280" y="559296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75280" y="55947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4560" y="5602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0680" y="55551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57640" y="553932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33960" y="5596920"/>
              <a:ext cx="266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3396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3324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17200" y="5567040"/>
              <a:ext cx="601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28920" y="555516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0560" y="561492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0560" y="56167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9840" y="5625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87400" y="55789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79320" y="5555160"/>
              <a:ext cx="394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53840" y="5608800"/>
              <a:ext cx="267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53840" y="56149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3120" y="5622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39240" y="55771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37000" y="1702440"/>
              <a:ext cx="4855320" cy="2732040"/>
            </a:xfrm>
            <a:custGeom>
              <a:avLst/>
              <a:gdLst/>
              <a:ahLst/>
              <a:rect l="l" t="t" r="r" b="b"/>
              <a:pathLst>
                <a:path w="5978" h="2745">
                  <a:moveTo>
                    <a:pt x="5970" y="2745"/>
                  </a:moveTo>
                  <a:lnTo>
                    <a:pt x="5978" y="2725"/>
                  </a:lnTo>
                  <a:lnTo>
                    <a:pt x="4774" y="2170"/>
                  </a:lnTo>
                  <a:lnTo>
                    <a:pt x="3597" y="1648"/>
                  </a:lnTo>
                  <a:lnTo>
                    <a:pt x="2405" y="1105"/>
                  </a:lnTo>
                  <a:lnTo>
                    <a:pt x="1599" y="732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593" y="753"/>
                  </a:lnTo>
                  <a:lnTo>
                    <a:pt x="1593" y="743"/>
                  </a:lnTo>
                  <a:lnTo>
                    <a:pt x="1593" y="753"/>
                  </a:lnTo>
                  <a:lnTo>
                    <a:pt x="2397" y="1127"/>
                  </a:lnTo>
                  <a:lnTo>
                    <a:pt x="3589" y="1664"/>
                  </a:lnTo>
                  <a:lnTo>
                    <a:pt x="4763" y="2190"/>
                  </a:lnTo>
                  <a:lnTo>
                    <a:pt x="5970" y="27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87400" y="3300480"/>
              <a:ext cx="6562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4792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41440" y="3300480"/>
              <a:ext cx="6120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976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18800" y="36446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67360" y="2230200"/>
              <a:ext cx="27360" cy="435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4" y="43"/>
                  </a:moveTo>
                  <a:lnTo>
                    <a:pt x="34" y="10"/>
                  </a:lnTo>
                  <a:lnTo>
                    <a:pt x="22" y="0"/>
                  </a:lnTo>
                  <a:lnTo>
                    <a:pt x="0" y="38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25640" y="4617720"/>
              <a:ext cx="143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77080" y="460764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37600" y="4890240"/>
              <a:ext cx="12117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6560" y="488448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633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98480" y="526680"/>
              <a:ext cx="288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2096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34560" y="349200"/>
              <a:ext cx="215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33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34560" y="561096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33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92240" y="711720"/>
              <a:ext cx="12571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06640" y="715680"/>
              <a:ext cx="10720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06280" y="72576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2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07640" y="649800"/>
              <a:ext cx="989280" cy="565200"/>
            </a:xfrm>
            <a:custGeom>
              <a:avLst/>
              <a:gdLst/>
              <a:ahLst/>
              <a:rect l="l" t="t" r="r" b="b"/>
              <a:pathLst>
                <a:path w="1217" h="569">
                  <a:moveTo>
                    <a:pt x="19" y="0"/>
                  </a:moveTo>
                  <a:lnTo>
                    <a:pt x="0" y="44"/>
                  </a:lnTo>
                  <a:lnTo>
                    <a:pt x="1197" y="569"/>
                  </a:lnTo>
                  <a:lnTo>
                    <a:pt x="1217" y="52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504160" y="793440"/>
              <a:ext cx="374400" cy="182160"/>
              <a:chOff x="2504160" y="793440"/>
              <a:chExt cx="374400" cy="182160"/>
            </a:xfrm>
          </p:grpSpPr>
          <p:sp>
            <p:nvSpPr>
              <p:cNvPr id="617" name=""/>
              <p:cNvSpPr/>
              <p:nvPr/>
            </p:nvSpPr>
            <p:spPr>
              <a:xfrm>
                <a:off x="2648160" y="864720"/>
                <a:ext cx="2304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04160" y="793440"/>
                <a:ext cx="149400" cy="18216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84" y="0"/>
                    </a:moveTo>
                    <a:lnTo>
                      <a:pt x="0" y="90"/>
                    </a:lnTo>
                    <a:lnTo>
                      <a:pt x="184" y="18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857600" y="562320"/>
              <a:ext cx="110160" cy="21672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68" y="0"/>
                  </a:moveTo>
                  <a:lnTo>
                    <a:pt x="0" y="109"/>
                  </a:lnTo>
                  <a:lnTo>
                    <a:pt x="68" y="218"/>
                  </a:lnTo>
                  <a:lnTo>
                    <a:pt x="137" y="109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71800" y="274536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32806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3560" y="2243520"/>
              <a:ext cx="2655720" cy="2234880"/>
            </a:xfrm>
            <a:custGeom>
              <a:avLst/>
              <a:gdLst/>
              <a:ahLst/>
              <a:rect l="l" t="t" r="r" b="b"/>
              <a:pathLst>
                <a:path w="3268" h="2247">
                  <a:moveTo>
                    <a:pt x="25" y="0"/>
                  </a:moveTo>
                  <a:lnTo>
                    <a:pt x="0" y="37"/>
                  </a:lnTo>
                  <a:lnTo>
                    <a:pt x="3242" y="2247"/>
                  </a:lnTo>
                  <a:lnTo>
                    <a:pt x="3268" y="220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477040" y="3324240"/>
              <a:ext cx="967680" cy="552600"/>
              <a:chOff x="5477040" y="3324240"/>
              <a:chExt cx="967680" cy="552600"/>
            </a:xfrm>
          </p:grpSpPr>
          <p:sp>
            <p:nvSpPr>
              <p:cNvPr id="624" name=""/>
              <p:cNvSpPr/>
              <p:nvPr/>
            </p:nvSpPr>
            <p:spPr>
              <a:xfrm>
                <a:off x="5477040" y="33242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46520" y="336204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4"/>
                    </a:lnTo>
                    <a:lnTo>
                      <a:pt x="44" y="63"/>
                    </a:lnTo>
                    <a:lnTo>
                      <a:pt x="64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17800" y="33994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88000" y="3439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759280" y="3475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29480" y="35128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900760" y="35510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70600" y="35884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20" y="0"/>
                    </a:moveTo>
                    <a:lnTo>
                      <a:pt x="0" y="44"/>
                    </a:lnTo>
                    <a:lnTo>
                      <a:pt x="43" y="64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40440" y="362448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12080" y="36640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81560" y="3701880"/>
                <a:ext cx="5220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52840" y="373968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23040" y="377712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94320" y="3813480"/>
                <a:ext cx="5040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940400" y="711720"/>
              <a:ext cx="943560" cy="506880"/>
            </a:xfrm>
            <a:custGeom>
              <a:avLst/>
              <a:gdLst/>
              <a:ahLst/>
              <a:rect l="l" t="t" r="r" b="b"/>
              <a:pathLst>
                <a:path w="1162" h="509">
                  <a:moveTo>
                    <a:pt x="14" y="0"/>
                  </a:moveTo>
                  <a:lnTo>
                    <a:pt x="0" y="33"/>
                  </a:lnTo>
                  <a:lnTo>
                    <a:pt x="1148" y="509"/>
                  </a:lnTo>
                  <a:lnTo>
                    <a:pt x="1162" y="47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90440" y="1189080"/>
              <a:ext cx="646200" cy="557280"/>
            </a:xfrm>
            <a:custGeom>
              <a:avLst/>
              <a:gdLst/>
              <a:ahLst/>
              <a:rect l="l" t="t" r="r" b="b"/>
              <a:pathLst>
                <a:path w="796" h="559">
                  <a:moveTo>
                    <a:pt x="20" y="0"/>
                  </a:moveTo>
                  <a:lnTo>
                    <a:pt x="0" y="29"/>
                  </a:lnTo>
                  <a:lnTo>
                    <a:pt x="777" y="559"/>
                  </a:lnTo>
                  <a:lnTo>
                    <a:pt x="796" y="5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21600" y="3362400"/>
              <a:ext cx="25387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34120" y="3399840"/>
              <a:ext cx="269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35560" y="3407760"/>
              <a:ext cx="24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International SEMA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109480" y="3694320"/>
              <a:ext cx="1175760" cy="614160"/>
              <a:chOff x="5109480" y="3694320"/>
              <a:chExt cx="1175760" cy="614160"/>
            </a:xfrm>
          </p:grpSpPr>
          <p:sp>
            <p:nvSpPr>
              <p:cNvPr id="644" name=""/>
              <p:cNvSpPr/>
              <p:nvPr/>
            </p:nvSpPr>
            <p:spPr>
              <a:xfrm>
                <a:off x="5109480" y="3694320"/>
                <a:ext cx="996840" cy="497520"/>
              </a:xfrm>
              <a:custGeom>
                <a:avLst/>
                <a:gdLst/>
                <a:ahLst/>
                <a:rect l="l" t="t" r="r" b="b"/>
                <a:pathLst>
                  <a:path w="1090" h="332">
                    <a:moveTo>
                      <a:pt x="12" y="0"/>
                    </a:moveTo>
                    <a:lnTo>
                      <a:pt x="0" y="45"/>
                    </a:lnTo>
                    <a:lnTo>
                      <a:pt x="1079" y="332"/>
                    </a:lnTo>
                    <a:lnTo>
                      <a:pt x="1090" y="28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069960" y="4002840"/>
                <a:ext cx="215280" cy="305640"/>
              </a:xfrm>
              <a:custGeom>
                <a:avLst/>
                <a:gdLst/>
                <a:ahLst/>
                <a:rect l="l" t="t" r="r" b="b"/>
                <a:pathLst>
                  <a:path w="235" h="206">
                    <a:moveTo>
                      <a:pt x="0" y="206"/>
                    </a:moveTo>
                    <a:lnTo>
                      <a:pt x="235" y="160"/>
                    </a:lnTo>
                    <a:lnTo>
                      <a:pt x="55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330720" y="4699440"/>
              <a:ext cx="365004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96320" y="4767120"/>
              <a:ext cx="33462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00640" y="4776840"/>
              <a:ext cx="27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Area for Future Accel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43080" y="4251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3"/>
                  </a:lnTo>
                  <a:lnTo>
                    <a:pt x="158" y="0"/>
                  </a:lnTo>
                  <a:lnTo>
                    <a:pt x="130" y="143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01560" y="3684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5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5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84960" y="4768920"/>
              <a:ext cx="256320" cy="346320"/>
            </a:xfrm>
            <a:custGeom>
              <a:avLst/>
              <a:gdLst/>
              <a:ahLst/>
              <a:rect l="l" t="t" r="r" b="b"/>
              <a:pathLst>
                <a:path w="317" h="348">
                  <a:moveTo>
                    <a:pt x="317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1" y="142"/>
                  </a:lnTo>
                  <a:lnTo>
                    <a:pt x="0" y="174"/>
                  </a:lnTo>
                  <a:lnTo>
                    <a:pt x="131" y="205"/>
                  </a:lnTo>
                  <a:lnTo>
                    <a:pt x="158" y="348"/>
                  </a:lnTo>
                  <a:lnTo>
                    <a:pt x="186" y="205"/>
                  </a:lnTo>
                  <a:lnTo>
                    <a:pt x="317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6120" y="533628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6727680" y="4368960"/>
              <a:ext cx="1255320" cy="1087920"/>
              <a:chOff x="6727680" y="4368960"/>
              <a:chExt cx="1255320" cy="1087920"/>
            </a:xfrm>
          </p:grpSpPr>
          <p:sp>
            <p:nvSpPr>
              <p:cNvPr id="654" name=""/>
              <p:cNvSpPr/>
              <p:nvPr/>
            </p:nvSpPr>
            <p:spPr>
              <a:xfrm>
                <a:off x="6727680" y="4368960"/>
                <a:ext cx="149400" cy="143280"/>
              </a:xfrm>
              <a:custGeom>
                <a:avLst/>
                <a:gdLst/>
                <a:ahLst/>
                <a:rect l="l" t="t" r="r" b="b"/>
                <a:pathLst>
                  <a:path w="183" h="144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3" y="10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949800" y="4557960"/>
                <a:ext cx="149400" cy="14292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28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4" y="10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70840" y="4746960"/>
                <a:ext cx="147600" cy="1450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28" y="0"/>
                    </a:moveTo>
                    <a:lnTo>
                      <a:pt x="0" y="38"/>
                    </a:lnTo>
                    <a:lnTo>
                      <a:pt x="154" y="146"/>
                    </a:lnTo>
                    <a:lnTo>
                      <a:pt x="182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90080" y="4933800"/>
                <a:ext cx="149400" cy="14724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6"/>
                    </a:lnTo>
                    <a:lnTo>
                      <a:pt x="184" y="10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12560" y="5122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8" y="0"/>
                    </a:moveTo>
                    <a:lnTo>
                      <a:pt x="0" y="37"/>
                    </a:lnTo>
                    <a:lnTo>
                      <a:pt x="157" y="146"/>
                    </a:lnTo>
                    <a:lnTo>
                      <a:pt x="184" y="10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33600" y="5311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28" y="0"/>
                    </a:moveTo>
                    <a:lnTo>
                      <a:pt x="0" y="38"/>
                    </a:lnTo>
                    <a:lnTo>
                      <a:pt x="156" y="147"/>
                    </a:lnTo>
                    <a:lnTo>
                      <a:pt x="184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440040" y="3857760"/>
              <a:ext cx="952920" cy="586440"/>
              <a:chOff x="6440040" y="3857760"/>
              <a:chExt cx="952920" cy="586440"/>
            </a:xfrm>
          </p:grpSpPr>
          <p:sp>
            <p:nvSpPr>
              <p:cNvPr id="661" name=""/>
              <p:cNvSpPr/>
              <p:nvPr/>
            </p:nvSpPr>
            <p:spPr>
              <a:xfrm>
                <a:off x="6440040" y="3857760"/>
                <a:ext cx="500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08080" y="389736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577560" y="393912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647760" y="397656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1"/>
                    </a:lnTo>
                    <a:lnTo>
                      <a:pt x="43" y="63"/>
                    </a:lnTo>
                    <a:lnTo>
                      <a:pt x="63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15800" y="40186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787080" y="406044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1"/>
                    </a:lnTo>
                    <a:lnTo>
                      <a:pt x="41" y="61"/>
                    </a:lnTo>
                    <a:lnTo>
                      <a:pt x="61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55480" y="410004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25320" y="414000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995160" y="417960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2"/>
                    </a:lnTo>
                    <a:lnTo>
                      <a:pt x="43" y="63"/>
                    </a:lnTo>
                    <a:lnTo>
                      <a:pt x="63" y="2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65000" y="422136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134840" y="4263120"/>
                <a:ext cx="50400" cy="597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9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205040" y="43009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73080" y="4342680"/>
                <a:ext cx="518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44360" y="438264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20" y="0"/>
                    </a:moveTo>
                    <a:lnTo>
                      <a:pt x="0" y="41"/>
                    </a:lnTo>
                    <a:lnTo>
                      <a:pt x="42" y="63"/>
                    </a:lnTo>
                    <a:lnTo>
                      <a:pt x="62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7413120" y="4422600"/>
              <a:ext cx="975600" cy="527040"/>
              <a:chOff x="7413120" y="4422600"/>
              <a:chExt cx="975600" cy="527040"/>
            </a:xfrm>
          </p:grpSpPr>
          <p:sp>
            <p:nvSpPr>
              <p:cNvPr id="676" name=""/>
              <p:cNvSpPr/>
              <p:nvPr/>
            </p:nvSpPr>
            <p:spPr>
              <a:xfrm>
                <a:off x="7413120" y="44226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484400" y="44560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554240" y="449424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627320" y="45298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697160" y="4565880"/>
                <a:ext cx="50040" cy="59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68800" y="46015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8" y="0"/>
                    </a:moveTo>
                    <a:lnTo>
                      <a:pt x="0" y="43"/>
                    </a:lnTo>
                    <a:lnTo>
                      <a:pt x="46" y="63"/>
                    </a:lnTo>
                    <a:lnTo>
                      <a:pt x="63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840080" y="463716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911720" y="467316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4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983000" y="47088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052480" y="474444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8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1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124120" y="4780440"/>
                <a:ext cx="522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8" y="0"/>
                    </a:moveTo>
                    <a:lnTo>
                      <a:pt x="0" y="43"/>
                    </a:lnTo>
                    <a:lnTo>
                      <a:pt x="45" y="61"/>
                    </a:lnTo>
                    <a:lnTo>
                      <a:pt x="63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95400" y="4816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267400" y="48524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7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336880" y="4889880"/>
                <a:ext cx="51840" cy="59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17" y="0"/>
                    </a:moveTo>
                    <a:lnTo>
                      <a:pt x="0" y="44"/>
                    </a:lnTo>
                    <a:lnTo>
                      <a:pt x="45" y="62"/>
                    </a:lnTo>
                    <a:lnTo>
                      <a:pt x="63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393240" y="3797640"/>
              <a:ext cx="124560" cy="1393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56240" y="436500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37240" y="48844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732360" y="4440960"/>
              <a:ext cx="309960" cy="393480"/>
              <a:chOff x="6732360" y="4440960"/>
              <a:chExt cx="309960" cy="393480"/>
            </a:xfrm>
          </p:grpSpPr>
          <p:sp>
            <p:nvSpPr>
              <p:cNvPr id="694" name=""/>
              <p:cNvSpPr/>
              <p:nvPr/>
            </p:nvSpPr>
            <p:spPr>
              <a:xfrm>
                <a:off x="6732360" y="4572000"/>
                <a:ext cx="207720" cy="262440"/>
              </a:xfrm>
              <a:custGeom>
                <a:avLst/>
                <a:gdLst/>
                <a:ahLst/>
                <a:rect l="l" t="t" r="r" b="b"/>
                <a:pathLst>
                  <a:path w="255" h="265">
                    <a:moveTo>
                      <a:pt x="0" y="232"/>
                    </a:moveTo>
                    <a:lnTo>
                      <a:pt x="33" y="265"/>
                    </a:lnTo>
                    <a:lnTo>
                      <a:pt x="255" y="34"/>
                    </a:lnTo>
                    <a:lnTo>
                      <a:pt x="221" y="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58720" y="4440960"/>
                <a:ext cx="183600" cy="226080"/>
              </a:xfrm>
              <a:custGeom>
                <a:avLst/>
                <a:gdLst/>
                <a:ahLst/>
                <a:rect l="l" t="t" r="r" b="b"/>
                <a:pathLst>
                  <a:path w="225" h="227">
                    <a:moveTo>
                      <a:pt x="154" y="227"/>
                    </a:moveTo>
                    <a:lnTo>
                      <a:pt x="225" y="0"/>
                    </a:lnTo>
                    <a:lnTo>
                      <a:pt x="0" y="79"/>
                    </a:lnTo>
                    <a:lnTo>
                      <a:pt x="154" y="22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4037760" y="1388160"/>
              <a:ext cx="307800" cy="379440"/>
              <a:chOff x="4037760" y="1388160"/>
              <a:chExt cx="307800" cy="379440"/>
            </a:xfrm>
          </p:grpSpPr>
          <p:sp>
            <p:nvSpPr>
              <p:cNvPr id="697" name=""/>
              <p:cNvSpPr/>
              <p:nvPr/>
            </p:nvSpPr>
            <p:spPr>
              <a:xfrm>
                <a:off x="4142880" y="1388160"/>
                <a:ext cx="202680" cy="25056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0" y="218"/>
                    </a:moveTo>
                    <a:lnTo>
                      <a:pt x="34" y="251"/>
                    </a:lnTo>
                    <a:lnTo>
                      <a:pt x="251" y="34"/>
                    </a:lnTo>
                    <a:lnTo>
                      <a:pt x="218" y="0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37760" y="1541160"/>
                <a:ext cx="183240" cy="226440"/>
              </a:xfrm>
              <a:custGeom>
                <a:avLst/>
                <a:gdLst/>
                <a:ahLst/>
                <a:rect l="l" t="t" r="r" b="b"/>
                <a:pathLst>
                  <a:path w="225" h="228">
                    <a:moveTo>
                      <a:pt x="75" y="0"/>
                    </a:moveTo>
                    <a:lnTo>
                      <a:pt x="0" y="228"/>
                    </a:lnTo>
                    <a:lnTo>
                      <a:pt x="225" y="1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5270760" y="2080800"/>
              <a:ext cx="462240" cy="598320"/>
              <a:chOff x="5270760" y="2080800"/>
              <a:chExt cx="462240" cy="598320"/>
            </a:xfrm>
          </p:grpSpPr>
          <p:sp>
            <p:nvSpPr>
              <p:cNvPr id="700" name=""/>
              <p:cNvSpPr/>
              <p:nvPr/>
            </p:nvSpPr>
            <p:spPr>
              <a:xfrm>
                <a:off x="5371200" y="2080800"/>
                <a:ext cx="361800" cy="462960"/>
              </a:xfrm>
              <a:custGeom>
                <a:avLst/>
                <a:gdLst/>
                <a:ahLst/>
                <a:rect l="l" t="t" r="r" b="b"/>
                <a:pathLst>
                  <a:path w="445" h="466">
                    <a:moveTo>
                      <a:pt x="0" y="435"/>
                    </a:moveTo>
                    <a:lnTo>
                      <a:pt x="34" y="466"/>
                    </a:lnTo>
                    <a:lnTo>
                      <a:pt x="445" y="31"/>
                    </a:lnTo>
                    <a:lnTo>
                      <a:pt x="41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70760" y="2452320"/>
                <a:ext cx="181440" cy="226800"/>
              </a:xfrm>
              <a:custGeom>
                <a:avLst/>
                <a:gdLst/>
                <a:ahLst/>
                <a:rect l="l" t="t" r="r" b="b"/>
                <a:pathLst>
                  <a:path w="224" h="230">
                    <a:moveTo>
                      <a:pt x="70" y="0"/>
                    </a:moveTo>
                    <a:lnTo>
                      <a:pt x="0" y="230"/>
                    </a:lnTo>
                    <a:lnTo>
                      <a:pt x="224" y="147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773400" y="2990160"/>
              <a:ext cx="588960" cy="663840"/>
              <a:chOff x="6773400" y="2990160"/>
              <a:chExt cx="588960" cy="663840"/>
            </a:xfrm>
          </p:grpSpPr>
          <p:sp>
            <p:nvSpPr>
              <p:cNvPr id="703" name=""/>
              <p:cNvSpPr/>
              <p:nvPr/>
            </p:nvSpPr>
            <p:spPr>
              <a:xfrm>
                <a:off x="6881760" y="2990160"/>
                <a:ext cx="480600" cy="542880"/>
              </a:xfrm>
              <a:custGeom>
                <a:avLst/>
                <a:gdLst/>
                <a:ahLst/>
                <a:rect l="l" t="t" r="r" b="b"/>
                <a:pathLst>
                  <a:path w="591" h="545">
                    <a:moveTo>
                      <a:pt x="0" y="510"/>
                    </a:moveTo>
                    <a:lnTo>
                      <a:pt x="32" y="545"/>
                    </a:lnTo>
                    <a:lnTo>
                      <a:pt x="591" y="35"/>
                    </a:lnTo>
                    <a:lnTo>
                      <a:pt x="560" y="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73400" y="3433320"/>
                <a:ext cx="186480" cy="220680"/>
              </a:xfrm>
              <a:custGeom>
                <a:avLst/>
                <a:gdLst/>
                <a:ahLst/>
                <a:rect l="l" t="t" r="r" b="b"/>
                <a:pathLst>
                  <a:path w="229" h="224">
                    <a:moveTo>
                      <a:pt x="85" y="0"/>
                    </a:moveTo>
                    <a:lnTo>
                      <a:pt x="0" y="224"/>
                    </a:lnTo>
                    <a:lnTo>
                      <a:pt x="229" y="15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507840" y="1662840"/>
              <a:ext cx="74520" cy="9504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95480" y="1189080"/>
              <a:ext cx="649440" cy="519120"/>
            </a:xfrm>
            <a:custGeom>
              <a:avLst/>
              <a:gdLst/>
              <a:ahLst/>
              <a:rect l="l" t="t" r="r" b="b"/>
              <a:pathLst>
                <a:path w="800" h="521">
                  <a:moveTo>
                    <a:pt x="18" y="0"/>
                  </a:moveTo>
                  <a:lnTo>
                    <a:pt x="0" y="29"/>
                  </a:lnTo>
                  <a:lnTo>
                    <a:pt x="782" y="521"/>
                  </a:lnTo>
                  <a:lnTo>
                    <a:pt x="800" y="49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54800" y="1127520"/>
              <a:ext cx="84600" cy="127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41440" y="2220120"/>
              <a:ext cx="87480" cy="7920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28" y="0"/>
                  </a:moveTo>
                  <a:lnTo>
                    <a:pt x="0" y="40"/>
                  </a:lnTo>
                  <a:lnTo>
                    <a:pt x="28" y="79"/>
                  </a:lnTo>
                  <a:lnTo>
                    <a:pt x="81" y="79"/>
                  </a:lnTo>
                  <a:lnTo>
                    <a:pt x="109" y="40"/>
                  </a:lnTo>
                  <a:lnTo>
                    <a:pt x="8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79480" y="1704240"/>
              <a:ext cx="595800" cy="515520"/>
            </a:xfrm>
            <a:custGeom>
              <a:avLst/>
              <a:gdLst/>
              <a:ahLst/>
              <a:rect l="l" t="t" r="r" b="b"/>
              <a:pathLst>
                <a:path w="735" h="518">
                  <a:moveTo>
                    <a:pt x="20" y="0"/>
                  </a:moveTo>
                  <a:lnTo>
                    <a:pt x="0" y="30"/>
                  </a:lnTo>
                  <a:lnTo>
                    <a:pt x="715" y="518"/>
                  </a:lnTo>
                  <a:lnTo>
                    <a:pt x="735" y="48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56440" y="1746360"/>
              <a:ext cx="615600" cy="537120"/>
            </a:xfrm>
            <a:custGeom>
              <a:avLst/>
              <a:gdLst/>
              <a:ahLst/>
              <a:rect l="l" t="t" r="r" b="b"/>
              <a:pathLst>
                <a:path w="759" h="539">
                  <a:moveTo>
                    <a:pt x="20" y="0"/>
                  </a:moveTo>
                  <a:lnTo>
                    <a:pt x="0" y="30"/>
                  </a:lnTo>
                  <a:lnTo>
                    <a:pt x="739" y="539"/>
                  </a:lnTo>
                  <a:lnTo>
                    <a:pt x="759" y="5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69160" y="6064560"/>
              <a:ext cx="67755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14080" y="6138000"/>
              <a:ext cx="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-564840" y="3656160"/>
              <a:ext cx="36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02560" y="3378240"/>
              <a:ext cx="279000" cy="306360"/>
            </a:xfrm>
            <a:custGeom>
              <a:avLst/>
              <a:gdLst/>
              <a:ahLst/>
              <a:rect l="l" t="t" r="r" b="b"/>
              <a:pathLst>
                <a:path w="344" h="308">
                  <a:moveTo>
                    <a:pt x="172" y="0"/>
                  </a:moveTo>
                  <a:lnTo>
                    <a:pt x="132" y="119"/>
                  </a:lnTo>
                  <a:lnTo>
                    <a:pt x="0" y="119"/>
                  </a:lnTo>
                  <a:lnTo>
                    <a:pt x="107" y="192"/>
                  </a:lnTo>
                  <a:lnTo>
                    <a:pt x="67" y="308"/>
                  </a:lnTo>
                  <a:lnTo>
                    <a:pt x="172" y="237"/>
                  </a:lnTo>
                  <a:lnTo>
                    <a:pt x="276" y="308"/>
                  </a:lnTo>
                  <a:lnTo>
                    <a:pt x="237" y="192"/>
                  </a:lnTo>
                  <a:lnTo>
                    <a:pt x="344" y="119"/>
                  </a:lnTo>
                  <a:lnTo>
                    <a:pt x="211" y="119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752360" y="2733120"/>
              <a:ext cx="3933360" cy="2315520"/>
              <a:chOff x="4752360" y="2733120"/>
              <a:chExt cx="3933360" cy="231552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4752360" y="2733120"/>
                <a:ext cx="3732120" cy="2315520"/>
                <a:chOff x="4752360" y="2733120"/>
                <a:chExt cx="3732120" cy="23155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752360" y="273312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405400" y="325800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716800" y="3472920"/>
                  <a:ext cx="155880" cy="1911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701400" y="399852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666200" y="454752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4839840" y="2840400"/>
                  <a:ext cx="3547080" cy="2112120"/>
                  <a:chOff x="4839840" y="2840400"/>
                  <a:chExt cx="3547080" cy="21121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4839840" y="2840400"/>
                    <a:ext cx="642960" cy="513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5482800" y="3341520"/>
                    <a:ext cx="311760" cy="21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5804280" y="3568320"/>
                    <a:ext cx="964800" cy="513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788880" y="4105440"/>
                    <a:ext cx="964440" cy="54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733880" y="4642200"/>
                    <a:ext cx="653040" cy="310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8" name=""/>
                <p:cNvSpPr/>
                <p:nvPr/>
              </p:nvSpPr>
              <p:spPr>
                <a:xfrm>
                  <a:off x="8328960" y="485784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7279560" y="3003840"/>
                <a:ext cx="1406160" cy="1292760"/>
                <a:chOff x="7279560" y="3003840"/>
                <a:chExt cx="1406160" cy="12927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932240" y="3003840"/>
                  <a:ext cx="753480" cy="82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"/>
                    </a:rPr>
                    <a:t>2001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/2003 ITR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7279560" y="3565080"/>
                  <a:ext cx="701280" cy="731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1496880" y="5841720"/>
              <a:ext cx="46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*Note the 2003 ITRS  timing is unchanged from the 2001 IT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LE OF INFORMATION TECHNOLOGY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Prices, Investment, and Produ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9480" y="487692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ITAL CONTRIBUTION BY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s, Communications Equipment, and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2057400"/>
            <a:ext cx="8534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PUT SHARES OF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s, Communications Equipment, and Soft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28880" y="35053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ITAL CON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versus Non-IT Capital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17120" y="637236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91480" y="637236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346440" y="637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87360" y="639756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6524640"/>
            <a:ext cx="533520" cy="0"/>
          </a:xfrm>
          <a:prstGeom prst="line">
            <a:avLst/>
          </a:prstGeom>
          <a:ln cap="sq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63880" y="6384960"/>
            <a:ext cx="228600" cy="228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11600" y="6512040"/>
            <a:ext cx="533160" cy="0"/>
          </a:xfrm>
          <a:prstGeom prst="line">
            <a:avLst/>
          </a:prstGeom>
          <a:ln cap="sq"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02280" y="6384960"/>
            <a:ext cx="22860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50000" y="6512040"/>
            <a:ext cx="533160" cy="0"/>
          </a:xfrm>
          <a:prstGeom prst="line">
            <a:avLst/>
          </a:prstGeom>
          <a:ln cap="sq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04440" y="6372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459560" y="63849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07280" y="6512040"/>
            <a:ext cx="53352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put Shares of Information Technology by Type, 1948-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4:29:51Z</dcterms:created>
  <dc:creator>Jon Samuels</dc:creator>
  <dc:description/>
  <dc:language>en-US</dc:language>
  <cp:lastModifiedBy>cjq236</cp:lastModifiedBy>
  <dcterms:modified xsi:type="dcterms:W3CDTF">2006-05-11T09:12:43Z</dcterms:modified>
  <cp:revision>261</cp:revision>
  <dc:subject/>
  <dc:title>INFORMATION TECHNOLOGY AND U.S. ECONOMIC GROWTH</dc:title>
</cp:coreProperties>
</file>