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548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2040" y="4375080"/>
            <a:ext cx="511632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4980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4980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5753CE2-BEFA-42C0-A6F0-E2C964906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2040" y="4375080"/>
            <a:ext cx="511632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2040" y="4375080"/>
            <a:ext cx="511632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collegeassembly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FC2A-E85E-44AB-A20A-ABBFF42E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5D0-04CB-45E8-B8C3-17D8E5A5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369-8639-413E-98BD-10BF6CC1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69C-BFB9-4AA3-B457-96745BD7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E70-9226-40A2-B158-C2042265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50E-DB67-4C19-BA87-FC5E2C75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B9E-5A0E-4209-964F-250E6216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631-FD92-4911-862C-9B34D18B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56A-71F5-41B6-B33C-7A5B1A31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BEB-CD45-4C19-91E9-840537E4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8BF-4BDC-4052-A039-372F6E77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5A46-37FD-4A68-83F6-06E872EF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4598-7344-4C28-ADEB-EE0BDAAB8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Technology and the World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8720" y="3417840"/>
            <a:ext cx="731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le W. Jorge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va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post.economics.harvard.edu/faculty/jorgenso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004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0048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2096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0200" y="428760"/>
            <a:ext cx="3346560" cy="1069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763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pital Input Contribution of Information Technology by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40640" y="628812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368240" y="6283440"/>
            <a:ext cx="132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050880" y="628488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952720" y="6267600"/>
            <a:ext cx="152280" cy="22860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181400" y="6267600"/>
            <a:ext cx="152640" cy="228600"/>
          </a:xfrm>
          <a:prstGeom prst="rect">
            <a:avLst/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857920" y="6267600"/>
            <a:ext cx="152280" cy="228600"/>
          </a:xfrm>
          <a:prstGeom prst="rect">
            <a:avLst/>
          </a:prstGeom>
          <a:solidFill>
            <a:srgbClr val="800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241200" y="473040"/>
            <a:ext cx="8661600" cy="5919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2914920" y="63356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n-IT Capital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547960" y="6321600"/>
            <a:ext cx="168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Capital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85880" y="6346800"/>
            <a:ext cx="304920" cy="2286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251320" y="6345360"/>
            <a:ext cx="304920" cy="22860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763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pital Input Contribution of Information 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41200" y="473040"/>
            <a:ext cx="8661600" cy="5919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67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0" y="21744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0" y="246240"/>
            <a:ext cx="9144000" cy="6252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LD GROWTH RESURGEN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IT Investment and Productivity Grow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4608360"/>
            <a:ext cx="91440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BOR INPUT GROW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urs Worked and Labor Qua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8600" y="175248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TAL FACTOR PRODUC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-Production versus Non-IT Pro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028880" y="32767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URCES OF ECONOMIC GROW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 Input, Labor Input, and TF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200160"/>
            <a:ext cx="91440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ributions of Information Technology to Total Factor Productivity Grow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ibutions are average annual relative price changes, weighted by average nominal output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426120" y="631512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n-IT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447520" y="631512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24080" y="6340320"/>
            <a:ext cx="304920" cy="2286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164200" y="6340320"/>
            <a:ext cx="304560" cy="2286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2286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ources of Gross Domestic Product Grow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48240" y="6019920"/>
            <a:ext cx="90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bor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94280" y="6035760"/>
            <a:ext cx="159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n-IT Capital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339800" y="6037200"/>
            <a:ext cx="121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Capital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947920" y="6035760"/>
            <a:ext cx="1448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n-IT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780680" y="6037200"/>
            <a:ext cx="106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62120" y="6019920"/>
            <a:ext cx="152280" cy="22860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109960" y="6019920"/>
            <a:ext cx="152280" cy="2286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49720" y="6019920"/>
            <a:ext cx="152280" cy="22860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59280" y="6018120"/>
            <a:ext cx="15264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593120" y="6019920"/>
            <a:ext cx="152280" cy="2286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52671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2286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ources of Gross Domestic Product Grow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48240" y="6019920"/>
            <a:ext cx="90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bor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294280" y="6035760"/>
            <a:ext cx="159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n-IT Capital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39800" y="6037200"/>
            <a:ext cx="121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Capital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47920" y="6035760"/>
            <a:ext cx="1448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n-IT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80680" y="6037200"/>
            <a:ext cx="106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62120" y="6019920"/>
            <a:ext cx="152280" cy="22860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109960" y="6019920"/>
            <a:ext cx="152280" cy="2286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149720" y="6019920"/>
            <a:ext cx="152280" cy="22860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59280" y="6018120"/>
            <a:ext cx="15264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93120" y="6019920"/>
            <a:ext cx="152280" cy="2286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094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conomic Growth in the Information 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52760" y="1295280"/>
            <a:ext cx="4038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ROD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ces of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71880" y="2362320"/>
            <a:ext cx="4800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INFORMATION 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er, Better, Cheap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3505320"/>
            <a:ext cx="65534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LE OF INFORMATION TECHNOLO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Prices and the Cost of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62040" y="4495680"/>
            <a:ext cx="60199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ORLD GROWTH RESURGE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nvestment and Productivity Grow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86080" y="5638680"/>
            <a:ext cx="6172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CONOMICS ON INTERNET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ew Research Agen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2499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62532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ONOMICS ON INTERNET TIM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New Research Agen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37960" y="5334120"/>
            <a:ext cx="869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 IT and the semiconductor industry: permanent versus transitory contributions to economic grow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28600" y="1905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low Paradox -- we see computers everywhere but in the productivity statistics -- versus the Information 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28600" y="30481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ity Valuations and Growth Prospects: accumulation of intangible assets versus irrational exube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28600" y="4162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dening Wage Inequality:capital-skill complementarity versus skill-biased technical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NFORMATION AG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, Better, Cheap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3280" y="13510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ORE'S LAW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transistors on a chip doubles every 12-24 months. (Itanium 2 Processor, released November 8, 2004, has 592 million transistor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50245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A Annual Report 200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1978, a commercial flight between New York and Paris cost $900 and took seven hours. If the principles of Moore's Law were applied to the airline industry, that flight would now cost about a penny and take less than one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1240" y="262584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VENTION OF THE TRANSIST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Semiconductor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9440" y="385128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INTEGRATED CIRCU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ory Chips; Logic C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440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5372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No Exponential is Forever, Gordon Moore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tp://download.intel.com/research/silicon/Gordon_Moore_ISSCC_021003.pd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LDING QUALITY CONSTA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tched Models and Hedonic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3080" y="4724280"/>
            <a:ext cx="8458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FTWA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packaged, Custom, and Own-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680" y="1523880"/>
            <a:ext cx="8001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MICONDUCTOR PRICE INDEX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mory and Logic C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33440" y="2590920"/>
            <a:ext cx="6477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UTER PRICE INDEX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BEA-IBM Collabo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62040" y="3733920"/>
            <a:ext cx="60199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MUNICATIONS EQUIP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rminal, Switching, and Transmi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9836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lative Prices of Computers and Semiconductors, 1959-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rice indexes are divided by the output price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3720" y="62992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64240" y="629928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36200" y="6299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8760" y="632448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16120" y="6451560"/>
            <a:ext cx="507960" cy="25560"/>
          </a:xfrm>
          <a:prstGeom prst="line">
            <a:avLst/>
          </a:prstGeom>
          <a:ln cap="sq"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06760" y="6311880"/>
            <a:ext cx="228600" cy="228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54480" y="6438960"/>
            <a:ext cx="533520" cy="0"/>
          </a:xfrm>
          <a:prstGeom prst="line">
            <a:avLst/>
          </a:prstGeom>
          <a:ln cap="sq"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6311880"/>
            <a:ext cx="228600" cy="228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6438960"/>
            <a:ext cx="533520" cy="0"/>
          </a:xfrm>
          <a:prstGeom prst="line">
            <a:avLst/>
          </a:prstGeom>
          <a:ln cap="sq"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67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205740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457200" y="270000"/>
            <a:ext cx="9142920" cy="6665400"/>
            <a:chOff x="-457200" y="270000"/>
            <a:chExt cx="9142920" cy="6665400"/>
          </a:xfrm>
        </p:grpSpPr>
        <p:sp>
          <p:nvSpPr>
            <p:cNvPr id="87" name=""/>
            <p:cNvSpPr/>
            <p:nvPr/>
          </p:nvSpPr>
          <p:spPr>
            <a:xfrm>
              <a:off x="-457200" y="6645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5658480" y="3473640"/>
              <a:ext cx="2718720" cy="2032920"/>
              <a:chOff x="5658480" y="3473640"/>
              <a:chExt cx="2718720" cy="2032920"/>
            </a:xfrm>
          </p:grpSpPr>
          <p:sp>
            <p:nvSpPr>
              <p:cNvPr id="89" name=""/>
              <p:cNvSpPr/>
              <p:nvPr/>
            </p:nvSpPr>
            <p:spPr>
              <a:xfrm>
                <a:off x="5658480" y="3473640"/>
                <a:ext cx="2718720" cy="2032920"/>
              </a:xfrm>
              <a:custGeom>
                <a:avLst/>
                <a:gdLst/>
                <a:ahLst/>
                <a:rect l="l" t="t" r="r" b="b"/>
                <a:pathLst>
                  <a:path w="3347" h="2043">
                    <a:moveTo>
                      <a:pt x="3329" y="1474"/>
                    </a:moveTo>
                    <a:lnTo>
                      <a:pt x="2132" y="960"/>
                    </a:lnTo>
                    <a:lnTo>
                      <a:pt x="0" y="0"/>
                    </a:lnTo>
                    <a:lnTo>
                      <a:pt x="2946" y="2043"/>
                    </a:lnTo>
                    <a:lnTo>
                      <a:pt x="2997" y="2043"/>
                    </a:lnTo>
                    <a:lnTo>
                      <a:pt x="3051" y="2043"/>
                    </a:lnTo>
                    <a:lnTo>
                      <a:pt x="3108" y="2043"/>
                    </a:lnTo>
                    <a:lnTo>
                      <a:pt x="3163" y="2043"/>
                    </a:lnTo>
                    <a:lnTo>
                      <a:pt x="3217" y="2043"/>
                    </a:lnTo>
                    <a:lnTo>
                      <a:pt x="3268" y="2043"/>
                    </a:lnTo>
                    <a:lnTo>
                      <a:pt x="3290" y="2043"/>
                    </a:lnTo>
                    <a:lnTo>
                      <a:pt x="3311" y="2043"/>
                    </a:lnTo>
                    <a:lnTo>
                      <a:pt x="3331" y="2043"/>
                    </a:lnTo>
                    <a:lnTo>
                      <a:pt x="3347" y="2043"/>
                    </a:lnTo>
                    <a:lnTo>
                      <a:pt x="3329" y="1474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58480" y="3473640"/>
                <a:ext cx="2718720" cy="2032920"/>
              </a:xfrm>
              <a:custGeom>
                <a:avLst/>
                <a:gdLst/>
                <a:ahLst/>
                <a:rect l="l" t="t" r="r" b="b"/>
                <a:pathLst>
                  <a:path w="3347" h="2043">
                    <a:moveTo>
                      <a:pt x="3329" y="1474"/>
                    </a:moveTo>
                    <a:lnTo>
                      <a:pt x="2132" y="960"/>
                    </a:lnTo>
                    <a:lnTo>
                      <a:pt x="0" y="0"/>
                    </a:lnTo>
                    <a:lnTo>
                      <a:pt x="2946" y="2043"/>
                    </a:lnTo>
                    <a:lnTo>
                      <a:pt x="2997" y="2043"/>
                    </a:lnTo>
                    <a:lnTo>
                      <a:pt x="3051" y="2043"/>
                    </a:lnTo>
                    <a:lnTo>
                      <a:pt x="3108" y="2043"/>
                    </a:lnTo>
                    <a:lnTo>
                      <a:pt x="3163" y="2043"/>
                    </a:lnTo>
                    <a:lnTo>
                      <a:pt x="3217" y="2043"/>
                    </a:lnTo>
                    <a:lnTo>
                      <a:pt x="3268" y="2043"/>
                    </a:lnTo>
                    <a:lnTo>
                      <a:pt x="3290" y="2043"/>
                    </a:lnTo>
                    <a:lnTo>
                      <a:pt x="3311" y="2043"/>
                    </a:lnTo>
                    <a:lnTo>
                      <a:pt x="3331" y="2043"/>
                    </a:lnTo>
                    <a:lnTo>
                      <a:pt x="3347" y="2043"/>
                    </a:lnTo>
                    <a:lnTo>
                      <a:pt x="3329" y="1474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2898720" y="1187280"/>
              <a:ext cx="4844160" cy="2682000"/>
            </a:xfrm>
            <a:custGeom>
              <a:avLst/>
              <a:gdLst/>
              <a:ahLst/>
              <a:rect l="l" t="t" r="r" b="b"/>
              <a:pathLst>
                <a:path w="5964" h="2695">
                  <a:moveTo>
                    <a:pt x="5964" y="2695"/>
                  </a:moveTo>
                  <a:lnTo>
                    <a:pt x="4760" y="2169"/>
                  </a:lnTo>
                  <a:lnTo>
                    <a:pt x="3557" y="1632"/>
                  </a:lnTo>
                  <a:lnTo>
                    <a:pt x="2379" y="1063"/>
                  </a:lnTo>
                  <a:lnTo>
                    <a:pt x="1191" y="525"/>
                  </a:lnTo>
                  <a:lnTo>
                    <a:pt x="0" y="0"/>
                  </a:lnTo>
                  <a:lnTo>
                    <a:pt x="5964" y="269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93680" y="1179000"/>
              <a:ext cx="4852080" cy="2702520"/>
            </a:xfrm>
            <a:custGeom>
              <a:avLst/>
              <a:gdLst/>
              <a:ahLst/>
              <a:rect l="l" t="t" r="r" b="b"/>
              <a:pathLst>
                <a:path w="5973" h="2715">
                  <a:moveTo>
                    <a:pt x="5966" y="2715"/>
                  </a:moveTo>
                  <a:lnTo>
                    <a:pt x="5973" y="2695"/>
                  </a:lnTo>
                  <a:lnTo>
                    <a:pt x="4770" y="2169"/>
                  </a:lnTo>
                  <a:lnTo>
                    <a:pt x="3569" y="1630"/>
                  </a:lnTo>
                  <a:lnTo>
                    <a:pt x="2389" y="1065"/>
                  </a:lnTo>
                  <a:lnTo>
                    <a:pt x="1197" y="523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192" y="541"/>
                  </a:lnTo>
                  <a:lnTo>
                    <a:pt x="2385" y="1081"/>
                  </a:lnTo>
                  <a:lnTo>
                    <a:pt x="3559" y="1650"/>
                  </a:lnTo>
                  <a:lnTo>
                    <a:pt x="4762" y="2189"/>
                  </a:lnTo>
                  <a:lnTo>
                    <a:pt x="5966" y="271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23440" y="2140200"/>
              <a:ext cx="123120" cy="160920"/>
            </a:xfrm>
            <a:custGeom>
              <a:avLst/>
              <a:gdLst/>
              <a:ahLst/>
              <a:rect l="l" t="t" r="r" b="b"/>
              <a:pathLst>
                <a:path w="152" h="162">
                  <a:moveTo>
                    <a:pt x="75" y="0"/>
                  </a:moveTo>
                  <a:lnTo>
                    <a:pt x="0" y="162"/>
                  </a:lnTo>
                  <a:lnTo>
                    <a:pt x="152" y="16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80120" y="1603440"/>
              <a:ext cx="124920" cy="162720"/>
            </a:xfrm>
            <a:custGeom>
              <a:avLst/>
              <a:gdLst/>
              <a:ahLst/>
              <a:rect l="l" t="t" r="r" b="b"/>
              <a:pathLst>
                <a:path w="154" h="164">
                  <a:moveTo>
                    <a:pt x="77" y="0"/>
                  </a:moveTo>
                  <a:lnTo>
                    <a:pt x="0" y="164"/>
                  </a:lnTo>
                  <a:lnTo>
                    <a:pt x="154" y="164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37000" y="1702440"/>
              <a:ext cx="4519080" cy="2742120"/>
            </a:xfrm>
            <a:custGeom>
              <a:avLst/>
              <a:gdLst/>
              <a:ahLst/>
              <a:rect l="l" t="t" r="r" b="b"/>
              <a:pathLst>
                <a:path w="5565" h="2757">
                  <a:moveTo>
                    <a:pt x="5557" y="2757"/>
                  </a:moveTo>
                  <a:lnTo>
                    <a:pt x="5565" y="2737"/>
                  </a:lnTo>
                  <a:lnTo>
                    <a:pt x="4387" y="2170"/>
                  </a:lnTo>
                  <a:lnTo>
                    <a:pt x="3200" y="1648"/>
                  </a:lnTo>
                  <a:lnTo>
                    <a:pt x="2006" y="1105"/>
                  </a:lnTo>
                  <a:lnTo>
                    <a:pt x="805" y="540"/>
                  </a:lnTo>
                  <a:lnTo>
                    <a:pt x="803" y="550"/>
                  </a:lnTo>
                  <a:lnTo>
                    <a:pt x="805" y="540"/>
                  </a:lnTo>
                  <a:lnTo>
                    <a:pt x="12" y="0"/>
                  </a:lnTo>
                  <a:lnTo>
                    <a:pt x="0" y="18"/>
                  </a:lnTo>
                  <a:lnTo>
                    <a:pt x="795" y="558"/>
                  </a:lnTo>
                  <a:lnTo>
                    <a:pt x="799" y="560"/>
                  </a:lnTo>
                  <a:lnTo>
                    <a:pt x="1998" y="1125"/>
                  </a:lnTo>
                  <a:lnTo>
                    <a:pt x="3190" y="1662"/>
                  </a:lnTo>
                  <a:lnTo>
                    <a:pt x="4381" y="2188"/>
                  </a:lnTo>
                  <a:lnTo>
                    <a:pt x="5557" y="2757"/>
                  </a:lnTo>
                  <a:close/>
                </a:path>
              </a:pathLst>
            </a:cu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58440" y="658080"/>
              <a:ext cx="6815880" cy="4287960"/>
              <a:chOff x="1558440" y="658080"/>
              <a:chExt cx="6815880" cy="4287960"/>
            </a:xfrm>
          </p:grpSpPr>
          <p:sp>
            <p:nvSpPr>
              <p:cNvPr id="97" name=""/>
              <p:cNvSpPr/>
              <p:nvPr/>
            </p:nvSpPr>
            <p:spPr>
              <a:xfrm>
                <a:off x="1558440" y="4942080"/>
                <a:ext cx="6815880" cy="396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58440" y="4428720"/>
                <a:ext cx="6815880" cy="396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58440" y="3863520"/>
                <a:ext cx="6815880" cy="180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58440" y="3345840"/>
                <a:ext cx="6815880" cy="216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58440" y="2806920"/>
                <a:ext cx="6815880" cy="396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58440" y="2250000"/>
                <a:ext cx="6815880" cy="180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58440" y="1710720"/>
                <a:ext cx="6815880" cy="180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558440" y="1193040"/>
                <a:ext cx="6815880" cy="216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58440" y="658080"/>
                <a:ext cx="6815880" cy="1800"/>
              </a:xfrm>
              <a:prstGeom prst="line">
                <a:avLst/>
              </a:prstGeom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900520" y="538200"/>
              <a:ext cx="144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34960" y="526680"/>
              <a:ext cx="180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44920" y="538200"/>
              <a:ext cx="180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67120" y="538200"/>
              <a:ext cx="288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86800" y="544680"/>
              <a:ext cx="180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10080" y="538200"/>
              <a:ext cx="144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33360" y="544680"/>
              <a:ext cx="180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60240" y="544680"/>
              <a:ext cx="144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3160" y="552240"/>
              <a:ext cx="180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90240" y="544680"/>
              <a:ext cx="144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28280" y="552240"/>
              <a:ext cx="144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54440" y="552240"/>
              <a:ext cx="180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65120" y="552240"/>
              <a:ext cx="144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01000" y="544680"/>
              <a:ext cx="180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1680" y="552240"/>
              <a:ext cx="144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42880" y="552240"/>
              <a:ext cx="324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55000" y="540720"/>
              <a:ext cx="1440" cy="50540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32520" y="662040"/>
              <a:ext cx="6861240" cy="4865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2840" y="281520"/>
              <a:ext cx="33624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5560" y="343440"/>
              <a:ext cx="26964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15560" y="349200"/>
              <a:ext cx="2160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4840" y="355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99520" y="30960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81120" y="273960"/>
              <a:ext cx="3376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56000" y="333360"/>
              <a:ext cx="26784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57440" y="341640"/>
              <a:ext cx="216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56720" y="34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39240" y="29952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26240" y="273960"/>
              <a:ext cx="33444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99320" y="333360"/>
              <a:ext cx="26784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97520" y="341640"/>
              <a:ext cx="2156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34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84360" y="299520"/>
              <a:ext cx="583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98960" y="270000"/>
              <a:ext cx="339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5280" y="329400"/>
              <a:ext cx="26640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5280" y="333360"/>
              <a:ext cx="2160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4560" y="339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60680" y="29196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57640" y="275760"/>
              <a:ext cx="3409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33960" y="335880"/>
              <a:ext cx="2660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33960" y="345600"/>
              <a:ext cx="216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3240" y="3513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17200" y="305640"/>
              <a:ext cx="601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28920" y="291960"/>
              <a:ext cx="3362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0560" y="351360"/>
              <a:ext cx="267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0560" y="35136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9840" y="359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87400" y="31752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79320" y="291960"/>
              <a:ext cx="394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53840" y="347400"/>
              <a:ext cx="267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53840" y="35136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53120" y="359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39240" y="31356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31480" y="1652760"/>
              <a:ext cx="84240" cy="1231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88000" y="2188080"/>
              <a:ext cx="86040" cy="1252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51360" y="2745360"/>
              <a:ext cx="82800" cy="1252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24080" y="3284640"/>
              <a:ext cx="82800" cy="1231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0480" y="3804120"/>
              <a:ext cx="84240" cy="1231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10880" y="1018080"/>
              <a:ext cx="1332000" cy="39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14920" y="1087560"/>
              <a:ext cx="1072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14560" y="1097280"/>
              <a:ext cx="105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</a:rPr>
                <a:t>1994 NT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96320" y="92232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50200" y="4368960"/>
              <a:ext cx="73080" cy="10332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8520" y="1625040"/>
              <a:ext cx="10137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48720" y="1686960"/>
              <a:ext cx="124416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48720" y="1692720"/>
              <a:ext cx="1071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48360" y="1702440"/>
              <a:ext cx="105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1997 NT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30480" y="170244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85360" y="2709360"/>
              <a:ext cx="121680" cy="163080"/>
            </a:xfrm>
            <a:custGeom>
              <a:avLst/>
              <a:gdLst/>
              <a:ahLst/>
              <a:rect l="l" t="t" r="r" b="b"/>
              <a:pathLst>
                <a:path w="150" h="164">
                  <a:moveTo>
                    <a:pt x="75" y="0"/>
                  </a:moveTo>
                  <a:lnTo>
                    <a:pt x="0" y="164"/>
                  </a:lnTo>
                  <a:lnTo>
                    <a:pt x="150" y="164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64920" y="3248640"/>
              <a:ext cx="121680" cy="163080"/>
            </a:xfrm>
            <a:custGeom>
              <a:avLst/>
              <a:gdLst/>
              <a:ahLst/>
              <a:rect l="l" t="t" r="r" b="b"/>
              <a:pathLst>
                <a:path w="150" h="164">
                  <a:moveTo>
                    <a:pt x="75" y="0"/>
                  </a:moveTo>
                  <a:lnTo>
                    <a:pt x="0" y="164"/>
                  </a:lnTo>
                  <a:lnTo>
                    <a:pt x="150" y="164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97760" y="4319280"/>
              <a:ext cx="124920" cy="166680"/>
            </a:xfrm>
            <a:custGeom>
              <a:avLst/>
              <a:gdLst/>
              <a:ahLst/>
              <a:rect l="l" t="t" r="r" b="b"/>
              <a:pathLst>
                <a:path w="154" h="168">
                  <a:moveTo>
                    <a:pt x="77" y="0"/>
                  </a:moveTo>
                  <a:lnTo>
                    <a:pt x="0" y="168"/>
                  </a:lnTo>
                  <a:lnTo>
                    <a:pt x="154" y="16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39440" y="3752280"/>
              <a:ext cx="121320" cy="164880"/>
            </a:xfrm>
            <a:custGeom>
              <a:avLst/>
              <a:gdLst/>
              <a:ahLst/>
              <a:rect l="l" t="t" r="r" b="b"/>
              <a:pathLst>
                <a:path w="150" h="166">
                  <a:moveTo>
                    <a:pt x="73" y="0"/>
                  </a:moveTo>
                  <a:lnTo>
                    <a:pt x="0" y="166"/>
                  </a:lnTo>
                  <a:lnTo>
                    <a:pt x="150" y="16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52960" y="2207880"/>
              <a:ext cx="71280" cy="10152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92680" y="2391120"/>
              <a:ext cx="73080" cy="9720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55440" y="2769480"/>
              <a:ext cx="69840" cy="9720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23480" y="3292200"/>
              <a:ext cx="69840" cy="10152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78920" y="3811680"/>
              <a:ext cx="73080" cy="9720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67960" y="2563920"/>
              <a:ext cx="1775520" cy="42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41040" y="2628000"/>
              <a:ext cx="173304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9240" y="2634120"/>
              <a:ext cx="16113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9960" y="2641680"/>
              <a:ext cx="1590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66"/>
                  </a:solidFill>
                  <a:latin typeface="Arial"/>
                </a:rPr>
                <a:t>1998 / 1999 IT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65360" y="263988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39400" y="480600"/>
              <a:ext cx="55188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51960" y="508680"/>
              <a:ext cx="59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9400" y="1008000"/>
              <a:ext cx="55188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51960" y="103212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39400" y="1523520"/>
              <a:ext cx="551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51960" y="155124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39400" y="2058480"/>
              <a:ext cx="55188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51960" y="208656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39400" y="2620080"/>
              <a:ext cx="5518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51960" y="263988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4440" y="3165120"/>
              <a:ext cx="550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5560" y="318888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86560" y="3682800"/>
              <a:ext cx="551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51960" y="370440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86560" y="4239720"/>
              <a:ext cx="55188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51960" y="4265640"/>
              <a:ext cx="59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86560" y="4765320"/>
              <a:ext cx="5518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51960" y="478872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86560" y="5324400"/>
              <a:ext cx="551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-549000" y="2825640"/>
              <a:ext cx="248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Minimum Feature Size (nm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3640" y="1828080"/>
              <a:ext cx="276120" cy="221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404280" y="3276360"/>
              <a:ext cx="104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(DRAM Hal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664920" y="218772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itch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37600" y="544680"/>
              <a:ext cx="360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37600" y="546480"/>
              <a:ext cx="3247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37240" y="554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37600" y="1067760"/>
              <a:ext cx="36036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37600" y="1073880"/>
              <a:ext cx="324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37240" y="1081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37600" y="1589400"/>
              <a:ext cx="360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37600" y="1589400"/>
              <a:ext cx="324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37240" y="159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37600" y="2122200"/>
              <a:ext cx="36036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37600" y="2128680"/>
              <a:ext cx="324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37240" y="213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37600" y="2677680"/>
              <a:ext cx="360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37600" y="2683440"/>
              <a:ext cx="3247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37240" y="2691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4440" y="3227040"/>
              <a:ext cx="360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45880" y="3228840"/>
              <a:ext cx="3247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44800" y="32367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31920" y="3742200"/>
              <a:ext cx="267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33360" y="3744000"/>
              <a:ext cx="2174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32640" y="3750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31920" y="4297320"/>
              <a:ext cx="26784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33360" y="430740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32640" y="4315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31920" y="4824720"/>
              <a:ext cx="267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33360" y="4830840"/>
              <a:ext cx="2174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32640" y="4838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31920" y="5382000"/>
              <a:ext cx="2678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33360" y="5383800"/>
              <a:ext cx="2174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32640" y="5389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51960" y="534600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42840" y="5545080"/>
              <a:ext cx="3362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15560" y="5604480"/>
              <a:ext cx="26964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15560" y="5610960"/>
              <a:ext cx="2160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14840" y="5618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99520" y="5571360"/>
              <a:ext cx="59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81120" y="5537520"/>
              <a:ext cx="3376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6000" y="5594760"/>
              <a:ext cx="26784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57440" y="5600880"/>
              <a:ext cx="2160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56720" y="5608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39240" y="556308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26240" y="5537520"/>
              <a:ext cx="3344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99320" y="5594760"/>
              <a:ext cx="26784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97520" y="5600880"/>
              <a:ext cx="2156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96800" y="5608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84360" y="556308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98960" y="5533200"/>
              <a:ext cx="339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75280" y="5592960"/>
              <a:ext cx="26640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75280" y="5594760"/>
              <a:ext cx="2160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4560" y="5602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60680" y="555516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57640" y="5539320"/>
              <a:ext cx="3409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33960" y="5596920"/>
              <a:ext cx="266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33960" y="5600880"/>
              <a:ext cx="2160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33240" y="5608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17200" y="5567040"/>
              <a:ext cx="601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28920" y="5555160"/>
              <a:ext cx="3362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00560" y="5614920"/>
              <a:ext cx="2678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00560" y="561672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99840" y="5625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87400" y="5578920"/>
              <a:ext cx="583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879320" y="5555160"/>
              <a:ext cx="394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53840" y="5608800"/>
              <a:ext cx="267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3840" y="561492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53120" y="5622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39240" y="5577120"/>
              <a:ext cx="583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37000" y="1702440"/>
              <a:ext cx="4855320" cy="2732040"/>
            </a:xfrm>
            <a:custGeom>
              <a:avLst/>
              <a:gdLst/>
              <a:ahLst/>
              <a:rect l="l" t="t" r="r" b="b"/>
              <a:pathLst>
                <a:path w="5978" h="2745">
                  <a:moveTo>
                    <a:pt x="5970" y="2745"/>
                  </a:moveTo>
                  <a:lnTo>
                    <a:pt x="5978" y="2725"/>
                  </a:lnTo>
                  <a:lnTo>
                    <a:pt x="4774" y="2170"/>
                  </a:lnTo>
                  <a:lnTo>
                    <a:pt x="3597" y="1648"/>
                  </a:lnTo>
                  <a:lnTo>
                    <a:pt x="2405" y="1105"/>
                  </a:lnTo>
                  <a:lnTo>
                    <a:pt x="1599" y="732"/>
                  </a:lnTo>
                  <a:lnTo>
                    <a:pt x="805" y="540"/>
                  </a:lnTo>
                  <a:lnTo>
                    <a:pt x="803" y="550"/>
                  </a:lnTo>
                  <a:lnTo>
                    <a:pt x="805" y="540"/>
                  </a:lnTo>
                  <a:lnTo>
                    <a:pt x="12" y="0"/>
                  </a:lnTo>
                  <a:lnTo>
                    <a:pt x="0" y="18"/>
                  </a:lnTo>
                  <a:lnTo>
                    <a:pt x="795" y="558"/>
                  </a:lnTo>
                  <a:lnTo>
                    <a:pt x="799" y="560"/>
                  </a:lnTo>
                  <a:lnTo>
                    <a:pt x="1593" y="753"/>
                  </a:lnTo>
                  <a:lnTo>
                    <a:pt x="1593" y="743"/>
                  </a:lnTo>
                  <a:lnTo>
                    <a:pt x="1593" y="753"/>
                  </a:lnTo>
                  <a:lnTo>
                    <a:pt x="2397" y="1127"/>
                  </a:lnTo>
                  <a:lnTo>
                    <a:pt x="3589" y="1664"/>
                  </a:lnTo>
                  <a:lnTo>
                    <a:pt x="4763" y="2190"/>
                  </a:lnTo>
                  <a:lnTo>
                    <a:pt x="5970" y="274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7400" y="3300480"/>
              <a:ext cx="6562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47920" y="331848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41440" y="3300480"/>
              <a:ext cx="6120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49760" y="331848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18800" y="364464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67360" y="2230200"/>
              <a:ext cx="27360" cy="435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14" y="43"/>
                  </a:moveTo>
                  <a:lnTo>
                    <a:pt x="34" y="10"/>
                  </a:lnTo>
                  <a:lnTo>
                    <a:pt x="22" y="0"/>
                  </a:lnTo>
                  <a:lnTo>
                    <a:pt x="0" y="38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25640" y="4617720"/>
              <a:ext cx="1437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77080" y="460764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37600" y="4890240"/>
              <a:ext cx="12117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66560" y="4884480"/>
              <a:ext cx="583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63320" y="538200"/>
              <a:ext cx="180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98480" y="526680"/>
              <a:ext cx="288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20960" y="538200"/>
              <a:ext cx="144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34560" y="349200"/>
              <a:ext cx="2156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33840" y="355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34560" y="5610960"/>
              <a:ext cx="2156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33840" y="5618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92240" y="711720"/>
              <a:ext cx="1257120" cy="39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06640" y="715680"/>
              <a:ext cx="107208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06280" y="725760"/>
              <a:ext cx="105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2 NT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07640" y="649800"/>
              <a:ext cx="989280" cy="565200"/>
            </a:xfrm>
            <a:custGeom>
              <a:avLst/>
              <a:gdLst/>
              <a:ahLst/>
              <a:rect l="l" t="t" r="r" b="b"/>
              <a:pathLst>
                <a:path w="1217" h="569">
                  <a:moveTo>
                    <a:pt x="19" y="0"/>
                  </a:moveTo>
                  <a:lnTo>
                    <a:pt x="0" y="44"/>
                  </a:lnTo>
                  <a:lnTo>
                    <a:pt x="1197" y="569"/>
                  </a:lnTo>
                  <a:lnTo>
                    <a:pt x="1217" y="52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2504160" y="793440"/>
              <a:ext cx="374400" cy="182160"/>
              <a:chOff x="2504160" y="793440"/>
              <a:chExt cx="374400" cy="182160"/>
            </a:xfrm>
          </p:grpSpPr>
          <p:sp>
            <p:nvSpPr>
              <p:cNvPr id="300" name=""/>
              <p:cNvSpPr/>
              <p:nvPr/>
            </p:nvSpPr>
            <p:spPr>
              <a:xfrm>
                <a:off x="2648160" y="864720"/>
                <a:ext cx="23040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4160" y="793440"/>
                <a:ext cx="149400" cy="18216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184" y="0"/>
                    </a:moveTo>
                    <a:lnTo>
                      <a:pt x="0" y="90"/>
                    </a:lnTo>
                    <a:lnTo>
                      <a:pt x="184" y="183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857600" y="562320"/>
              <a:ext cx="110160" cy="216720"/>
            </a:xfrm>
            <a:custGeom>
              <a:avLst/>
              <a:gdLst/>
              <a:ahLst/>
              <a:rect l="l" t="t" r="r" b="b"/>
              <a:pathLst>
                <a:path w="137" h="218">
                  <a:moveTo>
                    <a:pt x="68" y="0"/>
                  </a:moveTo>
                  <a:lnTo>
                    <a:pt x="0" y="109"/>
                  </a:lnTo>
                  <a:lnTo>
                    <a:pt x="68" y="218"/>
                  </a:lnTo>
                  <a:lnTo>
                    <a:pt x="137" y="109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1800" y="2745360"/>
              <a:ext cx="124560" cy="13716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7" y="0"/>
                  </a:moveTo>
                  <a:lnTo>
                    <a:pt x="0" y="69"/>
                  </a:lnTo>
                  <a:lnTo>
                    <a:pt x="37" y="138"/>
                  </a:lnTo>
                  <a:lnTo>
                    <a:pt x="115" y="138"/>
                  </a:lnTo>
                  <a:lnTo>
                    <a:pt x="154" y="69"/>
                  </a:lnTo>
                  <a:lnTo>
                    <a:pt x="11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19800" y="3280680"/>
              <a:ext cx="124920" cy="13716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8" y="0"/>
                  </a:moveTo>
                  <a:lnTo>
                    <a:pt x="0" y="69"/>
                  </a:lnTo>
                  <a:lnTo>
                    <a:pt x="38" y="138"/>
                  </a:lnTo>
                  <a:lnTo>
                    <a:pt x="115" y="138"/>
                  </a:lnTo>
                  <a:lnTo>
                    <a:pt x="154" y="69"/>
                  </a:lnTo>
                  <a:lnTo>
                    <a:pt x="11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83560" y="2243520"/>
              <a:ext cx="2655720" cy="2234880"/>
            </a:xfrm>
            <a:custGeom>
              <a:avLst/>
              <a:gdLst/>
              <a:ahLst/>
              <a:rect l="l" t="t" r="r" b="b"/>
              <a:pathLst>
                <a:path w="3268" h="2247">
                  <a:moveTo>
                    <a:pt x="25" y="0"/>
                  </a:moveTo>
                  <a:lnTo>
                    <a:pt x="0" y="37"/>
                  </a:lnTo>
                  <a:lnTo>
                    <a:pt x="3242" y="2247"/>
                  </a:lnTo>
                  <a:lnTo>
                    <a:pt x="3268" y="220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5477040" y="3324240"/>
              <a:ext cx="967680" cy="552600"/>
              <a:chOff x="5477040" y="3324240"/>
              <a:chExt cx="967680" cy="552600"/>
            </a:xfrm>
          </p:grpSpPr>
          <p:sp>
            <p:nvSpPr>
              <p:cNvPr id="307" name=""/>
              <p:cNvSpPr/>
              <p:nvPr/>
            </p:nvSpPr>
            <p:spPr>
              <a:xfrm>
                <a:off x="5477040" y="3324240"/>
                <a:ext cx="50040" cy="6336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20" y="0"/>
                    </a:moveTo>
                    <a:lnTo>
                      <a:pt x="0" y="43"/>
                    </a:lnTo>
                    <a:lnTo>
                      <a:pt x="44" y="63"/>
                    </a:lnTo>
                    <a:lnTo>
                      <a:pt x="64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46520" y="3362040"/>
                <a:ext cx="51840" cy="6336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20" y="0"/>
                    </a:moveTo>
                    <a:lnTo>
                      <a:pt x="0" y="44"/>
                    </a:lnTo>
                    <a:lnTo>
                      <a:pt x="44" y="63"/>
                    </a:lnTo>
                    <a:lnTo>
                      <a:pt x="64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617800" y="339948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20" y="0"/>
                    </a:moveTo>
                    <a:lnTo>
                      <a:pt x="0" y="43"/>
                    </a:lnTo>
                    <a:lnTo>
                      <a:pt x="44" y="63"/>
                    </a:lnTo>
                    <a:lnTo>
                      <a:pt x="64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688000" y="3439440"/>
                <a:ext cx="5184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4"/>
                    </a:lnTo>
                    <a:lnTo>
                      <a:pt x="44" y="61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59280" y="347508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3"/>
                    </a:lnTo>
                    <a:lnTo>
                      <a:pt x="44" y="61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29480" y="351288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20" y="0"/>
                    </a:moveTo>
                    <a:lnTo>
                      <a:pt x="0" y="44"/>
                    </a:lnTo>
                    <a:lnTo>
                      <a:pt x="44" y="62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900760" y="3551040"/>
                <a:ext cx="5004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20" y="0"/>
                    </a:moveTo>
                    <a:lnTo>
                      <a:pt x="0" y="43"/>
                    </a:lnTo>
                    <a:lnTo>
                      <a:pt x="44" y="63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970600" y="358848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20" y="0"/>
                    </a:moveTo>
                    <a:lnTo>
                      <a:pt x="0" y="44"/>
                    </a:lnTo>
                    <a:lnTo>
                      <a:pt x="43" y="64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40440" y="3624480"/>
                <a:ext cx="5184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20" y="0"/>
                    </a:moveTo>
                    <a:lnTo>
                      <a:pt x="0" y="43"/>
                    </a:lnTo>
                    <a:lnTo>
                      <a:pt x="43" y="63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12080" y="366408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20" y="0"/>
                    </a:moveTo>
                    <a:lnTo>
                      <a:pt x="0" y="44"/>
                    </a:lnTo>
                    <a:lnTo>
                      <a:pt x="43" y="62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81560" y="3701880"/>
                <a:ext cx="52200" cy="612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3"/>
                    </a:lnTo>
                    <a:lnTo>
                      <a:pt x="43" y="61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52840" y="3739680"/>
                <a:ext cx="5220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3"/>
                    </a:lnTo>
                    <a:lnTo>
                      <a:pt x="43" y="61"/>
                    </a:lnTo>
                    <a:lnTo>
                      <a:pt x="63" y="1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23040" y="377712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9" y="0"/>
                    </a:moveTo>
                    <a:lnTo>
                      <a:pt x="0" y="44"/>
                    </a:lnTo>
                    <a:lnTo>
                      <a:pt x="43" y="63"/>
                    </a:lnTo>
                    <a:lnTo>
                      <a:pt x="63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394320" y="3813480"/>
                <a:ext cx="5040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9" y="0"/>
                    </a:moveTo>
                    <a:lnTo>
                      <a:pt x="0" y="43"/>
                    </a:lnTo>
                    <a:lnTo>
                      <a:pt x="43" y="63"/>
                    </a:lnTo>
                    <a:lnTo>
                      <a:pt x="63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940400" y="711720"/>
              <a:ext cx="943560" cy="506880"/>
            </a:xfrm>
            <a:custGeom>
              <a:avLst/>
              <a:gdLst/>
              <a:ahLst/>
              <a:rect l="l" t="t" r="r" b="b"/>
              <a:pathLst>
                <a:path w="1162" h="509">
                  <a:moveTo>
                    <a:pt x="14" y="0"/>
                  </a:moveTo>
                  <a:lnTo>
                    <a:pt x="0" y="33"/>
                  </a:lnTo>
                  <a:lnTo>
                    <a:pt x="1148" y="509"/>
                  </a:lnTo>
                  <a:lnTo>
                    <a:pt x="1162" y="47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90440" y="1189080"/>
              <a:ext cx="646200" cy="557280"/>
            </a:xfrm>
            <a:custGeom>
              <a:avLst/>
              <a:gdLst/>
              <a:ahLst/>
              <a:rect l="l" t="t" r="r" b="b"/>
              <a:pathLst>
                <a:path w="796" h="559">
                  <a:moveTo>
                    <a:pt x="20" y="0"/>
                  </a:moveTo>
                  <a:lnTo>
                    <a:pt x="0" y="29"/>
                  </a:lnTo>
                  <a:lnTo>
                    <a:pt x="777" y="559"/>
                  </a:lnTo>
                  <a:lnTo>
                    <a:pt x="796" y="52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30920" y="3692520"/>
              <a:ext cx="1333440" cy="39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86800" y="3746160"/>
              <a:ext cx="94860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21600" y="3362400"/>
              <a:ext cx="2538720" cy="39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34120" y="3399840"/>
              <a:ext cx="269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35560" y="3407760"/>
              <a:ext cx="24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International SEMA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30720" y="4699440"/>
              <a:ext cx="3650040" cy="49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96320" y="4767120"/>
              <a:ext cx="33462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01720" y="4776840"/>
              <a:ext cx="325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33"/>
                  </a:solidFill>
                  <a:latin typeface="Arial"/>
                </a:rPr>
                <a:t>Area for Future ITRS Accel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43080" y="4251600"/>
              <a:ext cx="256680" cy="345960"/>
            </a:xfrm>
            <a:custGeom>
              <a:avLst/>
              <a:gdLst/>
              <a:ahLst/>
              <a:rect l="l" t="t" r="r" b="b"/>
              <a:pathLst>
                <a:path w="316" h="348">
                  <a:moveTo>
                    <a:pt x="316" y="174"/>
                  </a:moveTo>
                  <a:lnTo>
                    <a:pt x="186" y="143"/>
                  </a:lnTo>
                  <a:lnTo>
                    <a:pt x="158" y="0"/>
                  </a:lnTo>
                  <a:lnTo>
                    <a:pt x="130" y="143"/>
                  </a:lnTo>
                  <a:lnTo>
                    <a:pt x="0" y="174"/>
                  </a:lnTo>
                  <a:lnTo>
                    <a:pt x="130" y="206"/>
                  </a:lnTo>
                  <a:lnTo>
                    <a:pt x="158" y="348"/>
                  </a:lnTo>
                  <a:lnTo>
                    <a:pt x="186" y="206"/>
                  </a:lnTo>
                  <a:lnTo>
                    <a:pt x="316" y="17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01560" y="3684600"/>
              <a:ext cx="256680" cy="345960"/>
            </a:xfrm>
            <a:custGeom>
              <a:avLst/>
              <a:gdLst/>
              <a:ahLst/>
              <a:rect l="l" t="t" r="r" b="b"/>
              <a:pathLst>
                <a:path w="316" h="348">
                  <a:moveTo>
                    <a:pt x="316" y="174"/>
                  </a:moveTo>
                  <a:lnTo>
                    <a:pt x="185" y="142"/>
                  </a:lnTo>
                  <a:lnTo>
                    <a:pt x="158" y="0"/>
                  </a:lnTo>
                  <a:lnTo>
                    <a:pt x="130" y="142"/>
                  </a:lnTo>
                  <a:lnTo>
                    <a:pt x="0" y="174"/>
                  </a:lnTo>
                  <a:lnTo>
                    <a:pt x="130" y="206"/>
                  </a:lnTo>
                  <a:lnTo>
                    <a:pt x="158" y="348"/>
                  </a:lnTo>
                  <a:lnTo>
                    <a:pt x="185" y="206"/>
                  </a:lnTo>
                  <a:lnTo>
                    <a:pt x="316" y="17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84960" y="4768920"/>
              <a:ext cx="256320" cy="346320"/>
            </a:xfrm>
            <a:custGeom>
              <a:avLst/>
              <a:gdLst/>
              <a:ahLst/>
              <a:rect l="l" t="t" r="r" b="b"/>
              <a:pathLst>
                <a:path w="317" h="348">
                  <a:moveTo>
                    <a:pt x="317" y="174"/>
                  </a:moveTo>
                  <a:lnTo>
                    <a:pt x="186" y="142"/>
                  </a:lnTo>
                  <a:lnTo>
                    <a:pt x="158" y="0"/>
                  </a:lnTo>
                  <a:lnTo>
                    <a:pt x="131" y="142"/>
                  </a:lnTo>
                  <a:lnTo>
                    <a:pt x="0" y="174"/>
                  </a:lnTo>
                  <a:lnTo>
                    <a:pt x="131" y="205"/>
                  </a:lnTo>
                  <a:lnTo>
                    <a:pt x="158" y="348"/>
                  </a:lnTo>
                  <a:lnTo>
                    <a:pt x="186" y="205"/>
                  </a:lnTo>
                  <a:lnTo>
                    <a:pt x="317" y="17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6120" y="5336280"/>
              <a:ext cx="256680" cy="345960"/>
            </a:xfrm>
            <a:custGeom>
              <a:avLst/>
              <a:gdLst/>
              <a:ahLst/>
              <a:rect l="l" t="t" r="r" b="b"/>
              <a:pathLst>
                <a:path w="316" h="348">
                  <a:moveTo>
                    <a:pt x="316" y="174"/>
                  </a:moveTo>
                  <a:lnTo>
                    <a:pt x="186" y="142"/>
                  </a:lnTo>
                  <a:lnTo>
                    <a:pt x="158" y="0"/>
                  </a:lnTo>
                  <a:lnTo>
                    <a:pt x="130" y="142"/>
                  </a:lnTo>
                  <a:lnTo>
                    <a:pt x="0" y="174"/>
                  </a:lnTo>
                  <a:lnTo>
                    <a:pt x="130" y="206"/>
                  </a:lnTo>
                  <a:lnTo>
                    <a:pt x="158" y="348"/>
                  </a:lnTo>
                  <a:lnTo>
                    <a:pt x="186" y="206"/>
                  </a:lnTo>
                  <a:lnTo>
                    <a:pt x="316" y="17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6727680" y="4368960"/>
              <a:ext cx="1255320" cy="1087920"/>
              <a:chOff x="6727680" y="4368960"/>
              <a:chExt cx="1255320" cy="1087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727680" y="4368960"/>
                <a:ext cx="149400" cy="143280"/>
              </a:xfrm>
              <a:custGeom>
                <a:avLst/>
                <a:gdLst/>
                <a:ahLst/>
                <a:rect l="l" t="t" r="r" b="b"/>
                <a:pathLst>
                  <a:path w="183" h="144">
                    <a:moveTo>
                      <a:pt x="27" y="0"/>
                    </a:moveTo>
                    <a:lnTo>
                      <a:pt x="0" y="37"/>
                    </a:lnTo>
                    <a:lnTo>
                      <a:pt x="156" y="144"/>
                    </a:lnTo>
                    <a:lnTo>
                      <a:pt x="183" y="10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949800" y="4557960"/>
                <a:ext cx="149400" cy="142920"/>
              </a:xfrm>
              <a:custGeom>
                <a:avLst/>
                <a:gdLst/>
                <a:ahLst/>
                <a:rect l="l" t="t" r="r" b="b"/>
                <a:pathLst>
                  <a:path w="184" h="144">
                    <a:moveTo>
                      <a:pt x="28" y="0"/>
                    </a:moveTo>
                    <a:lnTo>
                      <a:pt x="0" y="37"/>
                    </a:lnTo>
                    <a:lnTo>
                      <a:pt x="156" y="144"/>
                    </a:lnTo>
                    <a:lnTo>
                      <a:pt x="184" y="10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170840" y="4746960"/>
                <a:ext cx="147600" cy="145080"/>
              </a:xfrm>
              <a:custGeom>
                <a:avLst/>
                <a:gdLst/>
                <a:ahLst/>
                <a:rect l="l" t="t" r="r" b="b"/>
                <a:pathLst>
                  <a:path w="182" h="146">
                    <a:moveTo>
                      <a:pt x="28" y="0"/>
                    </a:moveTo>
                    <a:lnTo>
                      <a:pt x="0" y="38"/>
                    </a:lnTo>
                    <a:lnTo>
                      <a:pt x="154" y="146"/>
                    </a:lnTo>
                    <a:lnTo>
                      <a:pt x="182" y="10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390080" y="4933800"/>
                <a:ext cx="149400" cy="147240"/>
              </a:xfrm>
              <a:custGeom>
                <a:avLst/>
                <a:gdLst/>
                <a:ahLst/>
                <a:rect l="l" t="t" r="r" b="b"/>
                <a:pathLst>
                  <a:path w="184" h="146">
                    <a:moveTo>
                      <a:pt x="27" y="0"/>
                    </a:moveTo>
                    <a:lnTo>
                      <a:pt x="0" y="37"/>
                    </a:lnTo>
                    <a:lnTo>
                      <a:pt x="156" y="146"/>
                    </a:lnTo>
                    <a:lnTo>
                      <a:pt x="184" y="109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612560" y="5122800"/>
                <a:ext cx="149400" cy="145080"/>
              </a:xfrm>
              <a:custGeom>
                <a:avLst/>
                <a:gdLst/>
                <a:ahLst/>
                <a:rect l="l" t="t" r="r" b="b"/>
                <a:pathLst>
                  <a:path w="184" h="146">
                    <a:moveTo>
                      <a:pt x="28" y="0"/>
                    </a:moveTo>
                    <a:lnTo>
                      <a:pt x="0" y="37"/>
                    </a:lnTo>
                    <a:lnTo>
                      <a:pt x="157" y="146"/>
                    </a:lnTo>
                    <a:lnTo>
                      <a:pt x="184" y="10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833600" y="5311800"/>
                <a:ext cx="149400" cy="1450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28" y="0"/>
                    </a:moveTo>
                    <a:lnTo>
                      <a:pt x="0" y="38"/>
                    </a:lnTo>
                    <a:lnTo>
                      <a:pt x="156" y="147"/>
                    </a:lnTo>
                    <a:lnTo>
                      <a:pt x="184" y="10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440040" y="3857760"/>
              <a:ext cx="952920" cy="586440"/>
              <a:chOff x="6440040" y="3857760"/>
              <a:chExt cx="952920" cy="586440"/>
            </a:xfrm>
          </p:grpSpPr>
          <p:sp>
            <p:nvSpPr>
              <p:cNvPr id="343" name=""/>
              <p:cNvSpPr/>
              <p:nvPr/>
            </p:nvSpPr>
            <p:spPr>
              <a:xfrm>
                <a:off x="6440040" y="3857760"/>
                <a:ext cx="50040" cy="612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2"/>
                    </a:lnTo>
                    <a:lnTo>
                      <a:pt x="43" y="61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508080" y="3897360"/>
                <a:ext cx="5184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1"/>
                    </a:lnTo>
                    <a:lnTo>
                      <a:pt x="43" y="61"/>
                    </a:lnTo>
                    <a:lnTo>
                      <a:pt x="63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577560" y="393912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20" y="0"/>
                    </a:moveTo>
                    <a:lnTo>
                      <a:pt x="0" y="42"/>
                    </a:lnTo>
                    <a:lnTo>
                      <a:pt x="41" y="61"/>
                    </a:lnTo>
                    <a:lnTo>
                      <a:pt x="61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47760" y="3976560"/>
                <a:ext cx="5184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20" y="0"/>
                    </a:moveTo>
                    <a:lnTo>
                      <a:pt x="0" y="41"/>
                    </a:lnTo>
                    <a:lnTo>
                      <a:pt x="43" y="63"/>
                    </a:lnTo>
                    <a:lnTo>
                      <a:pt x="63" y="2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15800" y="401868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2"/>
                    </a:lnTo>
                    <a:lnTo>
                      <a:pt x="43" y="61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87080" y="406044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20" y="0"/>
                    </a:moveTo>
                    <a:lnTo>
                      <a:pt x="0" y="41"/>
                    </a:lnTo>
                    <a:lnTo>
                      <a:pt x="41" y="61"/>
                    </a:lnTo>
                    <a:lnTo>
                      <a:pt x="61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855480" y="4100040"/>
                <a:ext cx="5220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2"/>
                    </a:lnTo>
                    <a:lnTo>
                      <a:pt x="43" y="61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925320" y="414000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1"/>
                    </a:lnTo>
                    <a:lnTo>
                      <a:pt x="43" y="61"/>
                    </a:lnTo>
                    <a:lnTo>
                      <a:pt x="63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995160" y="4179600"/>
                <a:ext cx="5184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9" y="0"/>
                    </a:moveTo>
                    <a:lnTo>
                      <a:pt x="0" y="42"/>
                    </a:lnTo>
                    <a:lnTo>
                      <a:pt x="43" y="63"/>
                    </a:lnTo>
                    <a:lnTo>
                      <a:pt x="63" y="2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065000" y="422136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19" y="0"/>
                    </a:moveTo>
                    <a:lnTo>
                      <a:pt x="0" y="41"/>
                    </a:lnTo>
                    <a:lnTo>
                      <a:pt x="43" y="61"/>
                    </a:lnTo>
                    <a:lnTo>
                      <a:pt x="63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134840" y="4263120"/>
                <a:ext cx="50400" cy="5976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9" y="0"/>
                    </a:moveTo>
                    <a:lnTo>
                      <a:pt x="0" y="42"/>
                    </a:lnTo>
                    <a:lnTo>
                      <a:pt x="41" y="61"/>
                    </a:lnTo>
                    <a:lnTo>
                      <a:pt x="61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205040" y="4300920"/>
                <a:ext cx="5004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19" y="0"/>
                    </a:moveTo>
                    <a:lnTo>
                      <a:pt x="0" y="41"/>
                    </a:lnTo>
                    <a:lnTo>
                      <a:pt x="43" y="61"/>
                    </a:lnTo>
                    <a:lnTo>
                      <a:pt x="63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273080" y="4342680"/>
                <a:ext cx="51840" cy="612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19" y="0"/>
                    </a:moveTo>
                    <a:lnTo>
                      <a:pt x="0" y="42"/>
                    </a:lnTo>
                    <a:lnTo>
                      <a:pt x="43" y="61"/>
                    </a:lnTo>
                    <a:lnTo>
                      <a:pt x="63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344360" y="4382640"/>
                <a:ext cx="48600" cy="6156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20" y="0"/>
                    </a:moveTo>
                    <a:lnTo>
                      <a:pt x="0" y="41"/>
                    </a:lnTo>
                    <a:lnTo>
                      <a:pt x="42" y="63"/>
                    </a:lnTo>
                    <a:lnTo>
                      <a:pt x="62" y="2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7413120" y="4422600"/>
              <a:ext cx="975600" cy="527040"/>
              <a:chOff x="7413120" y="4422600"/>
              <a:chExt cx="975600" cy="527040"/>
            </a:xfrm>
          </p:grpSpPr>
          <p:sp>
            <p:nvSpPr>
              <p:cNvPr id="358" name=""/>
              <p:cNvSpPr/>
              <p:nvPr/>
            </p:nvSpPr>
            <p:spPr>
              <a:xfrm>
                <a:off x="7413120" y="442260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18" y="0"/>
                    </a:moveTo>
                    <a:lnTo>
                      <a:pt x="0" y="44"/>
                    </a:lnTo>
                    <a:lnTo>
                      <a:pt x="44" y="61"/>
                    </a:lnTo>
                    <a:lnTo>
                      <a:pt x="6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484400" y="4456080"/>
                <a:ext cx="48600" cy="6156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18" y="0"/>
                    </a:moveTo>
                    <a:lnTo>
                      <a:pt x="0" y="43"/>
                    </a:lnTo>
                    <a:lnTo>
                      <a:pt x="44" y="61"/>
                    </a:lnTo>
                    <a:lnTo>
                      <a:pt x="6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554240" y="4494240"/>
                <a:ext cx="50040" cy="6156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18" y="0"/>
                    </a:moveTo>
                    <a:lnTo>
                      <a:pt x="0" y="44"/>
                    </a:lnTo>
                    <a:lnTo>
                      <a:pt x="44" y="62"/>
                    </a:lnTo>
                    <a:lnTo>
                      <a:pt x="6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627320" y="4529880"/>
                <a:ext cx="48600" cy="6156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18" y="0"/>
                    </a:moveTo>
                    <a:lnTo>
                      <a:pt x="0" y="43"/>
                    </a:lnTo>
                    <a:lnTo>
                      <a:pt x="44" y="61"/>
                    </a:lnTo>
                    <a:lnTo>
                      <a:pt x="6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697160" y="4565880"/>
                <a:ext cx="50040" cy="59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18" y="0"/>
                    </a:moveTo>
                    <a:lnTo>
                      <a:pt x="0" y="44"/>
                    </a:lnTo>
                    <a:lnTo>
                      <a:pt x="44" y="62"/>
                    </a:lnTo>
                    <a:lnTo>
                      <a:pt x="61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68800" y="4601520"/>
                <a:ext cx="50040" cy="615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8" y="0"/>
                    </a:moveTo>
                    <a:lnTo>
                      <a:pt x="0" y="43"/>
                    </a:lnTo>
                    <a:lnTo>
                      <a:pt x="46" y="63"/>
                    </a:lnTo>
                    <a:lnTo>
                      <a:pt x="63" y="2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840080" y="4637160"/>
                <a:ext cx="50040" cy="6156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8" y="0"/>
                    </a:moveTo>
                    <a:lnTo>
                      <a:pt x="0" y="43"/>
                    </a:lnTo>
                    <a:lnTo>
                      <a:pt x="44" y="61"/>
                    </a:lnTo>
                    <a:lnTo>
                      <a:pt x="61" y="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911720" y="4673160"/>
                <a:ext cx="48600" cy="612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8" y="0"/>
                    </a:moveTo>
                    <a:lnTo>
                      <a:pt x="0" y="44"/>
                    </a:lnTo>
                    <a:lnTo>
                      <a:pt x="43" y="61"/>
                    </a:lnTo>
                    <a:lnTo>
                      <a:pt x="61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983000" y="470880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8" y="0"/>
                    </a:moveTo>
                    <a:lnTo>
                      <a:pt x="0" y="43"/>
                    </a:lnTo>
                    <a:lnTo>
                      <a:pt x="43" y="61"/>
                    </a:lnTo>
                    <a:lnTo>
                      <a:pt x="61" y="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052480" y="474444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18" y="0"/>
                    </a:moveTo>
                    <a:lnTo>
                      <a:pt x="0" y="44"/>
                    </a:lnTo>
                    <a:lnTo>
                      <a:pt x="43" y="63"/>
                    </a:lnTo>
                    <a:lnTo>
                      <a:pt x="61" y="2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124120" y="4780440"/>
                <a:ext cx="5220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18" y="0"/>
                    </a:moveTo>
                    <a:lnTo>
                      <a:pt x="0" y="43"/>
                    </a:lnTo>
                    <a:lnTo>
                      <a:pt x="45" y="61"/>
                    </a:lnTo>
                    <a:lnTo>
                      <a:pt x="63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195400" y="481608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18" y="0"/>
                    </a:moveTo>
                    <a:lnTo>
                      <a:pt x="0" y="44"/>
                    </a:lnTo>
                    <a:lnTo>
                      <a:pt x="43" y="62"/>
                    </a:lnTo>
                    <a:lnTo>
                      <a:pt x="61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267400" y="4852440"/>
                <a:ext cx="48600" cy="612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7" y="0"/>
                    </a:moveTo>
                    <a:lnTo>
                      <a:pt x="0" y="43"/>
                    </a:lnTo>
                    <a:lnTo>
                      <a:pt x="43" y="61"/>
                    </a:lnTo>
                    <a:lnTo>
                      <a:pt x="61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36880" y="4889880"/>
                <a:ext cx="51840" cy="59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17" y="0"/>
                    </a:moveTo>
                    <a:lnTo>
                      <a:pt x="0" y="44"/>
                    </a:lnTo>
                    <a:lnTo>
                      <a:pt x="45" y="62"/>
                    </a:lnTo>
                    <a:lnTo>
                      <a:pt x="63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6393240" y="3797640"/>
              <a:ext cx="124560" cy="13932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7" y="0"/>
                  </a:moveTo>
                  <a:lnTo>
                    <a:pt x="0" y="69"/>
                  </a:lnTo>
                  <a:lnTo>
                    <a:pt x="37" y="138"/>
                  </a:lnTo>
                  <a:lnTo>
                    <a:pt x="114" y="138"/>
                  </a:lnTo>
                  <a:lnTo>
                    <a:pt x="154" y="69"/>
                  </a:lnTo>
                  <a:lnTo>
                    <a:pt x="11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56240" y="4365000"/>
              <a:ext cx="124560" cy="13716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8" y="0"/>
                  </a:moveTo>
                  <a:lnTo>
                    <a:pt x="0" y="69"/>
                  </a:lnTo>
                  <a:lnTo>
                    <a:pt x="38" y="138"/>
                  </a:lnTo>
                  <a:lnTo>
                    <a:pt x="115" y="138"/>
                  </a:lnTo>
                  <a:lnTo>
                    <a:pt x="154" y="69"/>
                  </a:lnTo>
                  <a:lnTo>
                    <a:pt x="11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37240" y="4884480"/>
              <a:ext cx="124920" cy="13716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7" y="0"/>
                  </a:moveTo>
                  <a:lnTo>
                    <a:pt x="0" y="69"/>
                  </a:lnTo>
                  <a:lnTo>
                    <a:pt x="37" y="138"/>
                  </a:lnTo>
                  <a:lnTo>
                    <a:pt x="114" y="138"/>
                  </a:lnTo>
                  <a:lnTo>
                    <a:pt x="154" y="69"/>
                  </a:lnTo>
                  <a:lnTo>
                    <a:pt x="11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6732360" y="4440960"/>
              <a:ext cx="309960" cy="393480"/>
              <a:chOff x="6732360" y="4440960"/>
              <a:chExt cx="309960" cy="393480"/>
            </a:xfrm>
          </p:grpSpPr>
          <p:sp>
            <p:nvSpPr>
              <p:cNvPr id="376" name=""/>
              <p:cNvSpPr/>
              <p:nvPr/>
            </p:nvSpPr>
            <p:spPr>
              <a:xfrm>
                <a:off x="6732360" y="4572000"/>
                <a:ext cx="207720" cy="262440"/>
              </a:xfrm>
              <a:custGeom>
                <a:avLst/>
                <a:gdLst/>
                <a:ahLst/>
                <a:rect l="l" t="t" r="r" b="b"/>
                <a:pathLst>
                  <a:path w="255" h="265">
                    <a:moveTo>
                      <a:pt x="0" y="232"/>
                    </a:moveTo>
                    <a:lnTo>
                      <a:pt x="33" y="265"/>
                    </a:lnTo>
                    <a:lnTo>
                      <a:pt x="255" y="34"/>
                    </a:lnTo>
                    <a:lnTo>
                      <a:pt x="221" y="0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858720" y="4440960"/>
                <a:ext cx="183600" cy="226080"/>
              </a:xfrm>
              <a:custGeom>
                <a:avLst/>
                <a:gdLst/>
                <a:ahLst/>
                <a:rect l="l" t="t" r="r" b="b"/>
                <a:pathLst>
                  <a:path w="225" h="227">
                    <a:moveTo>
                      <a:pt x="154" y="227"/>
                    </a:moveTo>
                    <a:lnTo>
                      <a:pt x="225" y="0"/>
                    </a:lnTo>
                    <a:lnTo>
                      <a:pt x="0" y="79"/>
                    </a:lnTo>
                    <a:lnTo>
                      <a:pt x="154" y="227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037760" y="1388160"/>
              <a:ext cx="307800" cy="379440"/>
              <a:chOff x="4037760" y="1388160"/>
              <a:chExt cx="307800" cy="379440"/>
            </a:xfrm>
          </p:grpSpPr>
          <p:sp>
            <p:nvSpPr>
              <p:cNvPr id="379" name=""/>
              <p:cNvSpPr/>
              <p:nvPr/>
            </p:nvSpPr>
            <p:spPr>
              <a:xfrm>
                <a:off x="4142880" y="1388160"/>
                <a:ext cx="202680" cy="250560"/>
              </a:xfrm>
              <a:custGeom>
                <a:avLst/>
                <a:gdLst/>
                <a:ahLst/>
                <a:rect l="l" t="t" r="r" b="b"/>
                <a:pathLst>
                  <a:path w="251" h="251">
                    <a:moveTo>
                      <a:pt x="0" y="218"/>
                    </a:moveTo>
                    <a:lnTo>
                      <a:pt x="34" y="251"/>
                    </a:lnTo>
                    <a:lnTo>
                      <a:pt x="251" y="34"/>
                    </a:lnTo>
                    <a:lnTo>
                      <a:pt x="218" y="0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7760" y="1541160"/>
                <a:ext cx="183240" cy="226440"/>
              </a:xfrm>
              <a:custGeom>
                <a:avLst/>
                <a:gdLst/>
                <a:ahLst/>
                <a:rect l="l" t="t" r="r" b="b"/>
                <a:pathLst>
                  <a:path w="225" h="228">
                    <a:moveTo>
                      <a:pt x="75" y="0"/>
                    </a:moveTo>
                    <a:lnTo>
                      <a:pt x="0" y="228"/>
                    </a:lnTo>
                    <a:lnTo>
                      <a:pt x="225" y="15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5270760" y="2080800"/>
              <a:ext cx="462240" cy="598320"/>
              <a:chOff x="5270760" y="2080800"/>
              <a:chExt cx="462240" cy="598320"/>
            </a:xfrm>
          </p:grpSpPr>
          <p:sp>
            <p:nvSpPr>
              <p:cNvPr id="382" name=""/>
              <p:cNvSpPr/>
              <p:nvPr/>
            </p:nvSpPr>
            <p:spPr>
              <a:xfrm>
                <a:off x="5371200" y="2080800"/>
                <a:ext cx="361800" cy="462960"/>
              </a:xfrm>
              <a:custGeom>
                <a:avLst/>
                <a:gdLst/>
                <a:ahLst/>
                <a:rect l="l" t="t" r="r" b="b"/>
                <a:pathLst>
                  <a:path w="445" h="466">
                    <a:moveTo>
                      <a:pt x="0" y="435"/>
                    </a:moveTo>
                    <a:lnTo>
                      <a:pt x="34" y="466"/>
                    </a:lnTo>
                    <a:lnTo>
                      <a:pt x="445" y="31"/>
                    </a:lnTo>
                    <a:lnTo>
                      <a:pt x="41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ef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270760" y="2452320"/>
                <a:ext cx="181440" cy="226800"/>
              </a:xfrm>
              <a:custGeom>
                <a:avLst/>
                <a:gdLst/>
                <a:ahLst/>
                <a:rect l="l" t="t" r="r" b="b"/>
                <a:pathLst>
                  <a:path w="224" h="230">
                    <a:moveTo>
                      <a:pt x="70" y="0"/>
                    </a:moveTo>
                    <a:lnTo>
                      <a:pt x="0" y="230"/>
                    </a:lnTo>
                    <a:lnTo>
                      <a:pt x="224" y="147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ef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773400" y="2990160"/>
              <a:ext cx="588960" cy="663840"/>
              <a:chOff x="6773400" y="2990160"/>
              <a:chExt cx="588960" cy="663840"/>
            </a:xfrm>
          </p:grpSpPr>
          <p:sp>
            <p:nvSpPr>
              <p:cNvPr id="385" name=""/>
              <p:cNvSpPr/>
              <p:nvPr/>
            </p:nvSpPr>
            <p:spPr>
              <a:xfrm>
                <a:off x="6881760" y="2990160"/>
                <a:ext cx="480600" cy="542880"/>
              </a:xfrm>
              <a:custGeom>
                <a:avLst/>
                <a:gdLst/>
                <a:ahLst/>
                <a:rect l="l" t="t" r="r" b="b"/>
                <a:pathLst>
                  <a:path w="591" h="545">
                    <a:moveTo>
                      <a:pt x="0" y="510"/>
                    </a:moveTo>
                    <a:lnTo>
                      <a:pt x="32" y="545"/>
                    </a:lnTo>
                    <a:lnTo>
                      <a:pt x="591" y="35"/>
                    </a:lnTo>
                    <a:lnTo>
                      <a:pt x="560" y="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73400" y="3433320"/>
                <a:ext cx="186480" cy="220680"/>
              </a:xfrm>
              <a:custGeom>
                <a:avLst/>
                <a:gdLst/>
                <a:ahLst/>
                <a:rect l="l" t="t" r="r" b="b"/>
                <a:pathLst>
                  <a:path w="229" h="224">
                    <a:moveTo>
                      <a:pt x="85" y="0"/>
                    </a:moveTo>
                    <a:lnTo>
                      <a:pt x="0" y="224"/>
                    </a:lnTo>
                    <a:lnTo>
                      <a:pt x="229" y="15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2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3507840" y="1662840"/>
              <a:ext cx="74520" cy="9504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1189080"/>
              <a:ext cx="649440" cy="519120"/>
            </a:xfrm>
            <a:custGeom>
              <a:avLst/>
              <a:gdLst/>
              <a:ahLst/>
              <a:rect l="l" t="t" r="r" b="b"/>
              <a:pathLst>
                <a:path w="800" h="521">
                  <a:moveTo>
                    <a:pt x="18" y="0"/>
                  </a:moveTo>
                  <a:lnTo>
                    <a:pt x="0" y="29"/>
                  </a:lnTo>
                  <a:lnTo>
                    <a:pt x="782" y="521"/>
                  </a:lnTo>
                  <a:lnTo>
                    <a:pt x="800" y="49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f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54800" y="1127520"/>
              <a:ext cx="84600" cy="127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1440" y="2220120"/>
              <a:ext cx="87480" cy="7920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28" y="0"/>
                  </a:moveTo>
                  <a:lnTo>
                    <a:pt x="0" y="40"/>
                  </a:lnTo>
                  <a:lnTo>
                    <a:pt x="28" y="79"/>
                  </a:lnTo>
                  <a:lnTo>
                    <a:pt x="81" y="79"/>
                  </a:lnTo>
                  <a:lnTo>
                    <a:pt x="109" y="40"/>
                  </a:lnTo>
                  <a:lnTo>
                    <a:pt x="81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79480" y="1704240"/>
              <a:ext cx="595800" cy="515520"/>
            </a:xfrm>
            <a:custGeom>
              <a:avLst/>
              <a:gdLst/>
              <a:ahLst/>
              <a:rect l="l" t="t" r="r" b="b"/>
              <a:pathLst>
                <a:path w="735" h="518">
                  <a:moveTo>
                    <a:pt x="20" y="0"/>
                  </a:moveTo>
                  <a:lnTo>
                    <a:pt x="0" y="30"/>
                  </a:lnTo>
                  <a:lnTo>
                    <a:pt x="715" y="518"/>
                  </a:lnTo>
                  <a:lnTo>
                    <a:pt x="735" y="48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56440" y="1746360"/>
              <a:ext cx="615600" cy="537120"/>
            </a:xfrm>
            <a:custGeom>
              <a:avLst/>
              <a:gdLst/>
              <a:ahLst/>
              <a:rect l="l" t="t" r="r" b="b"/>
              <a:pathLst>
                <a:path w="759" h="539">
                  <a:moveTo>
                    <a:pt x="20" y="0"/>
                  </a:moveTo>
                  <a:lnTo>
                    <a:pt x="0" y="30"/>
                  </a:lnTo>
                  <a:lnTo>
                    <a:pt x="739" y="539"/>
                  </a:lnTo>
                  <a:lnTo>
                    <a:pt x="759" y="5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69160" y="6064560"/>
              <a:ext cx="677556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18760" y="6138000"/>
              <a:ext cx="5138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miconductor Roadmap Acceler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-564840" y="3660120"/>
              <a:ext cx="366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02560" y="3378240"/>
              <a:ext cx="279000" cy="306360"/>
            </a:xfrm>
            <a:custGeom>
              <a:avLst/>
              <a:gdLst/>
              <a:ahLst/>
              <a:rect l="l" t="t" r="r" b="b"/>
              <a:pathLst>
                <a:path w="344" h="308">
                  <a:moveTo>
                    <a:pt x="172" y="0"/>
                  </a:moveTo>
                  <a:lnTo>
                    <a:pt x="132" y="119"/>
                  </a:lnTo>
                  <a:lnTo>
                    <a:pt x="0" y="119"/>
                  </a:lnTo>
                  <a:lnTo>
                    <a:pt x="107" y="192"/>
                  </a:lnTo>
                  <a:lnTo>
                    <a:pt x="67" y="308"/>
                  </a:lnTo>
                  <a:lnTo>
                    <a:pt x="172" y="237"/>
                  </a:lnTo>
                  <a:lnTo>
                    <a:pt x="276" y="308"/>
                  </a:lnTo>
                  <a:lnTo>
                    <a:pt x="237" y="192"/>
                  </a:lnTo>
                  <a:lnTo>
                    <a:pt x="344" y="119"/>
                  </a:lnTo>
                  <a:lnTo>
                    <a:pt x="211" y="119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5658480" y="3473640"/>
              <a:ext cx="2718720" cy="2032920"/>
              <a:chOff x="5658480" y="3473640"/>
              <a:chExt cx="2718720" cy="2032920"/>
            </a:xfrm>
          </p:grpSpPr>
          <p:sp>
            <p:nvSpPr>
              <p:cNvPr id="398" name=""/>
              <p:cNvSpPr/>
              <p:nvPr/>
            </p:nvSpPr>
            <p:spPr>
              <a:xfrm>
                <a:off x="5658480" y="3473640"/>
                <a:ext cx="2718720" cy="2032920"/>
              </a:xfrm>
              <a:custGeom>
                <a:avLst/>
                <a:gdLst/>
                <a:ahLst/>
                <a:rect l="l" t="t" r="r" b="b"/>
                <a:pathLst>
                  <a:path w="3347" h="2043">
                    <a:moveTo>
                      <a:pt x="3329" y="1474"/>
                    </a:moveTo>
                    <a:lnTo>
                      <a:pt x="2132" y="960"/>
                    </a:lnTo>
                    <a:lnTo>
                      <a:pt x="0" y="0"/>
                    </a:lnTo>
                    <a:lnTo>
                      <a:pt x="2946" y="2043"/>
                    </a:lnTo>
                    <a:lnTo>
                      <a:pt x="2997" y="2043"/>
                    </a:lnTo>
                    <a:lnTo>
                      <a:pt x="3051" y="2043"/>
                    </a:lnTo>
                    <a:lnTo>
                      <a:pt x="3108" y="2043"/>
                    </a:lnTo>
                    <a:lnTo>
                      <a:pt x="3163" y="2043"/>
                    </a:lnTo>
                    <a:lnTo>
                      <a:pt x="3217" y="2043"/>
                    </a:lnTo>
                    <a:lnTo>
                      <a:pt x="3268" y="2043"/>
                    </a:lnTo>
                    <a:lnTo>
                      <a:pt x="3290" y="2043"/>
                    </a:lnTo>
                    <a:lnTo>
                      <a:pt x="3311" y="2043"/>
                    </a:lnTo>
                    <a:lnTo>
                      <a:pt x="3331" y="2043"/>
                    </a:lnTo>
                    <a:lnTo>
                      <a:pt x="3347" y="2043"/>
                    </a:lnTo>
                    <a:lnTo>
                      <a:pt x="3329" y="147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58480" y="3473640"/>
                <a:ext cx="2718720" cy="2032920"/>
              </a:xfrm>
              <a:custGeom>
                <a:avLst/>
                <a:gdLst/>
                <a:ahLst/>
                <a:rect l="l" t="t" r="r" b="b"/>
                <a:pathLst>
                  <a:path w="3347" h="2043">
                    <a:moveTo>
                      <a:pt x="3329" y="1474"/>
                    </a:moveTo>
                    <a:lnTo>
                      <a:pt x="2132" y="960"/>
                    </a:lnTo>
                    <a:lnTo>
                      <a:pt x="0" y="0"/>
                    </a:lnTo>
                    <a:lnTo>
                      <a:pt x="2946" y="2043"/>
                    </a:lnTo>
                    <a:lnTo>
                      <a:pt x="2997" y="2043"/>
                    </a:lnTo>
                    <a:lnTo>
                      <a:pt x="3051" y="2043"/>
                    </a:lnTo>
                    <a:lnTo>
                      <a:pt x="3108" y="2043"/>
                    </a:lnTo>
                    <a:lnTo>
                      <a:pt x="3163" y="2043"/>
                    </a:lnTo>
                    <a:lnTo>
                      <a:pt x="3217" y="2043"/>
                    </a:lnTo>
                    <a:lnTo>
                      <a:pt x="3268" y="2043"/>
                    </a:lnTo>
                    <a:lnTo>
                      <a:pt x="3290" y="2043"/>
                    </a:lnTo>
                    <a:lnTo>
                      <a:pt x="3311" y="2043"/>
                    </a:lnTo>
                    <a:lnTo>
                      <a:pt x="3331" y="2043"/>
                    </a:lnTo>
                    <a:lnTo>
                      <a:pt x="3347" y="2043"/>
                    </a:lnTo>
                    <a:lnTo>
                      <a:pt x="3329" y="1474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2898720" y="1187280"/>
              <a:ext cx="4844160" cy="2682000"/>
            </a:xfrm>
            <a:custGeom>
              <a:avLst/>
              <a:gdLst/>
              <a:ahLst/>
              <a:rect l="l" t="t" r="r" b="b"/>
              <a:pathLst>
                <a:path w="5964" h="2695">
                  <a:moveTo>
                    <a:pt x="5964" y="2695"/>
                  </a:moveTo>
                  <a:lnTo>
                    <a:pt x="4760" y="2169"/>
                  </a:lnTo>
                  <a:lnTo>
                    <a:pt x="3557" y="1632"/>
                  </a:lnTo>
                  <a:lnTo>
                    <a:pt x="2379" y="1063"/>
                  </a:lnTo>
                  <a:lnTo>
                    <a:pt x="1191" y="525"/>
                  </a:lnTo>
                  <a:lnTo>
                    <a:pt x="0" y="0"/>
                  </a:lnTo>
                  <a:lnTo>
                    <a:pt x="5964" y="269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93680" y="1179000"/>
              <a:ext cx="4852080" cy="2702520"/>
            </a:xfrm>
            <a:custGeom>
              <a:avLst/>
              <a:gdLst/>
              <a:ahLst/>
              <a:rect l="l" t="t" r="r" b="b"/>
              <a:pathLst>
                <a:path w="5973" h="2715">
                  <a:moveTo>
                    <a:pt x="5966" y="2715"/>
                  </a:moveTo>
                  <a:lnTo>
                    <a:pt x="5973" y="2695"/>
                  </a:lnTo>
                  <a:lnTo>
                    <a:pt x="4770" y="2169"/>
                  </a:lnTo>
                  <a:lnTo>
                    <a:pt x="3569" y="1630"/>
                  </a:lnTo>
                  <a:lnTo>
                    <a:pt x="2389" y="1065"/>
                  </a:lnTo>
                  <a:lnTo>
                    <a:pt x="1197" y="523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192" y="541"/>
                  </a:lnTo>
                  <a:lnTo>
                    <a:pt x="2385" y="1081"/>
                  </a:lnTo>
                  <a:lnTo>
                    <a:pt x="3559" y="1650"/>
                  </a:lnTo>
                  <a:lnTo>
                    <a:pt x="4762" y="2189"/>
                  </a:lnTo>
                  <a:lnTo>
                    <a:pt x="5966" y="271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23440" y="2140200"/>
              <a:ext cx="123120" cy="160920"/>
            </a:xfrm>
            <a:custGeom>
              <a:avLst/>
              <a:gdLst/>
              <a:ahLst/>
              <a:rect l="l" t="t" r="r" b="b"/>
              <a:pathLst>
                <a:path w="152" h="162">
                  <a:moveTo>
                    <a:pt x="75" y="0"/>
                  </a:moveTo>
                  <a:lnTo>
                    <a:pt x="0" y="162"/>
                  </a:lnTo>
                  <a:lnTo>
                    <a:pt x="152" y="16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80120" y="1603440"/>
              <a:ext cx="124920" cy="162720"/>
            </a:xfrm>
            <a:custGeom>
              <a:avLst/>
              <a:gdLst/>
              <a:ahLst/>
              <a:rect l="l" t="t" r="r" b="b"/>
              <a:pathLst>
                <a:path w="154" h="164">
                  <a:moveTo>
                    <a:pt x="77" y="0"/>
                  </a:moveTo>
                  <a:lnTo>
                    <a:pt x="0" y="164"/>
                  </a:lnTo>
                  <a:lnTo>
                    <a:pt x="154" y="164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37000" y="1702440"/>
              <a:ext cx="4519080" cy="2742120"/>
            </a:xfrm>
            <a:custGeom>
              <a:avLst/>
              <a:gdLst/>
              <a:ahLst/>
              <a:rect l="l" t="t" r="r" b="b"/>
              <a:pathLst>
                <a:path w="5565" h="2757">
                  <a:moveTo>
                    <a:pt x="5557" y="2757"/>
                  </a:moveTo>
                  <a:lnTo>
                    <a:pt x="5565" y="2737"/>
                  </a:lnTo>
                  <a:lnTo>
                    <a:pt x="4387" y="2170"/>
                  </a:lnTo>
                  <a:lnTo>
                    <a:pt x="3200" y="1648"/>
                  </a:lnTo>
                  <a:lnTo>
                    <a:pt x="2006" y="1105"/>
                  </a:lnTo>
                  <a:lnTo>
                    <a:pt x="805" y="540"/>
                  </a:lnTo>
                  <a:lnTo>
                    <a:pt x="803" y="550"/>
                  </a:lnTo>
                  <a:lnTo>
                    <a:pt x="805" y="540"/>
                  </a:lnTo>
                  <a:lnTo>
                    <a:pt x="12" y="0"/>
                  </a:lnTo>
                  <a:lnTo>
                    <a:pt x="0" y="18"/>
                  </a:lnTo>
                  <a:lnTo>
                    <a:pt x="795" y="558"/>
                  </a:lnTo>
                  <a:lnTo>
                    <a:pt x="799" y="560"/>
                  </a:lnTo>
                  <a:lnTo>
                    <a:pt x="1998" y="1125"/>
                  </a:lnTo>
                  <a:lnTo>
                    <a:pt x="3190" y="1662"/>
                  </a:lnTo>
                  <a:lnTo>
                    <a:pt x="4381" y="2188"/>
                  </a:lnTo>
                  <a:lnTo>
                    <a:pt x="5557" y="2757"/>
                  </a:lnTo>
                  <a:close/>
                </a:path>
              </a:pathLst>
            </a:cu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58440" y="4942080"/>
              <a:ext cx="6816240" cy="39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8440" y="4428720"/>
              <a:ext cx="6816240" cy="39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8440" y="3863520"/>
              <a:ext cx="6816240" cy="18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58440" y="3346200"/>
              <a:ext cx="6816240" cy="21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58440" y="2806920"/>
              <a:ext cx="6816240" cy="39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58440" y="2250000"/>
              <a:ext cx="6816240" cy="18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58440" y="1710720"/>
              <a:ext cx="6816240" cy="18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58440" y="1193040"/>
              <a:ext cx="6816240" cy="21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58440" y="658080"/>
              <a:ext cx="6816240" cy="18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58440" y="4942080"/>
              <a:ext cx="6816240" cy="39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58440" y="4428720"/>
              <a:ext cx="6816240" cy="39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58440" y="3863520"/>
              <a:ext cx="6816240" cy="18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58440" y="3346200"/>
              <a:ext cx="6816240" cy="21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58440" y="2806920"/>
              <a:ext cx="6816240" cy="39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58440" y="2250000"/>
              <a:ext cx="6816240" cy="18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58440" y="1710720"/>
              <a:ext cx="6816240" cy="18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58440" y="1193040"/>
              <a:ext cx="6816240" cy="216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58440" y="658080"/>
              <a:ext cx="6816240" cy="18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00520" y="538200"/>
              <a:ext cx="144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34960" y="526680"/>
              <a:ext cx="180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44920" y="538200"/>
              <a:ext cx="180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67120" y="538200"/>
              <a:ext cx="288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86800" y="544680"/>
              <a:ext cx="180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10080" y="538200"/>
              <a:ext cx="144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33360" y="544680"/>
              <a:ext cx="180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60240" y="544680"/>
              <a:ext cx="144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3160" y="552240"/>
              <a:ext cx="180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90240" y="544680"/>
              <a:ext cx="144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28280" y="552240"/>
              <a:ext cx="144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54440" y="552240"/>
              <a:ext cx="180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65120" y="552240"/>
              <a:ext cx="144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01000" y="544680"/>
              <a:ext cx="1800" cy="50522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11680" y="552240"/>
              <a:ext cx="144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42880" y="552240"/>
              <a:ext cx="324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55000" y="540720"/>
              <a:ext cx="1440" cy="505404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32520" y="662040"/>
              <a:ext cx="6861240" cy="4865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42840" y="281520"/>
              <a:ext cx="33624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15560" y="343440"/>
              <a:ext cx="26964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15560" y="349200"/>
              <a:ext cx="2160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14840" y="355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99520" y="30960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81120" y="273960"/>
              <a:ext cx="3376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56000" y="333360"/>
              <a:ext cx="26784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57440" y="341640"/>
              <a:ext cx="216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56720" y="34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39240" y="29952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26240" y="273960"/>
              <a:ext cx="33444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99320" y="333360"/>
              <a:ext cx="26784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97520" y="341640"/>
              <a:ext cx="2156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96800" y="34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84360" y="299520"/>
              <a:ext cx="583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98960" y="270000"/>
              <a:ext cx="339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75280" y="329400"/>
              <a:ext cx="26640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75280" y="333360"/>
              <a:ext cx="2160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74560" y="339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60680" y="29196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57640" y="275760"/>
              <a:ext cx="3409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33960" y="335880"/>
              <a:ext cx="2660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33960" y="345600"/>
              <a:ext cx="216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33240" y="3513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17200" y="305640"/>
              <a:ext cx="601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28920" y="291960"/>
              <a:ext cx="3362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00560" y="351360"/>
              <a:ext cx="267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00560" y="35136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999840" y="359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187400" y="31752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79320" y="291960"/>
              <a:ext cx="394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53840" y="347400"/>
              <a:ext cx="267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53840" y="35136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53120" y="359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139240" y="31356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31480" y="1652760"/>
              <a:ext cx="84240" cy="1231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88000" y="2188080"/>
              <a:ext cx="86040" cy="1252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51360" y="2745360"/>
              <a:ext cx="82800" cy="1252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24080" y="3284640"/>
              <a:ext cx="82800" cy="1231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10480" y="3804120"/>
              <a:ext cx="84240" cy="1231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10880" y="1018080"/>
              <a:ext cx="1332000" cy="39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14920" y="1087560"/>
              <a:ext cx="1072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14560" y="1097280"/>
              <a:ext cx="105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</a:rPr>
                <a:t>1994 NT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96320" y="92232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50200" y="4368960"/>
              <a:ext cx="73080" cy="10332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78520" y="1625040"/>
              <a:ext cx="10137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48720" y="1686960"/>
              <a:ext cx="124416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48720" y="1692720"/>
              <a:ext cx="1071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48360" y="1702440"/>
              <a:ext cx="105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1997 NT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30480" y="170244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85360" y="2709360"/>
              <a:ext cx="121680" cy="163080"/>
            </a:xfrm>
            <a:custGeom>
              <a:avLst/>
              <a:gdLst/>
              <a:ahLst/>
              <a:rect l="l" t="t" r="r" b="b"/>
              <a:pathLst>
                <a:path w="150" h="164">
                  <a:moveTo>
                    <a:pt x="75" y="0"/>
                  </a:moveTo>
                  <a:lnTo>
                    <a:pt x="0" y="164"/>
                  </a:lnTo>
                  <a:lnTo>
                    <a:pt x="150" y="164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64920" y="3248640"/>
              <a:ext cx="121680" cy="163080"/>
            </a:xfrm>
            <a:custGeom>
              <a:avLst/>
              <a:gdLst/>
              <a:ahLst/>
              <a:rect l="l" t="t" r="r" b="b"/>
              <a:pathLst>
                <a:path w="150" h="164">
                  <a:moveTo>
                    <a:pt x="75" y="0"/>
                  </a:moveTo>
                  <a:lnTo>
                    <a:pt x="0" y="164"/>
                  </a:lnTo>
                  <a:lnTo>
                    <a:pt x="150" y="164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97760" y="4319280"/>
              <a:ext cx="124920" cy="166680"/>
            </a:xfrm>
            <a:custGeom>
              <a:avLst/>
              <a:gdLst/>
              <a:ahLst/>
              <a:rect l="l" t="t" r="r" b="b"/>
              <a:pathLst>
                <a:path w="154" h="168">
                  <a:moveTo>
                    <a:pt x="77" y="0"/>
                  </a:moveTo>
                  <a:lnTo>
                    <a:pt x="0" y="168"/>
                  </a:lnTo>
                  <a:lnTo>
                    <a:pt x="154" y="16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39440" y="3752280"/>
              <a:ext cx="121320" cy="164880"/>
            </a:xfrm>
            <a:custGeom>
              <a:avLst/>
              <a:gdLst/>
              <a:ahLst/>
              <a:rect l="l" t="t" r="r" b="b"/>
              <a:pathLst>
                <a:path w="150" h="166">
                  <a:moveTo>
                    <a:pt x="73" y="0"/>
                  </a:moveTo>
                  <a:lnTo>
                    <a:pt x="0" y="166"/>
                  </a:lnTo>
                  <a:lnTo>
                    <a:pt x="150" y="16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cc99"/>
            </a:solidFill>
            <a:ln w="11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52960" y="2207880"/>
              <a:ext cx="71280" cy="10152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92680" y="2391120"/>
              <a:ext cx="73080" cy="9720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455440" y="2769480"/>
              <a:ext cx="69840" cy="9720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23480" y="3292200"/>
              <a:ext cx="69840" cy="10152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78920" y="3811680"/>
              <a:ext cx="73080" cy="9720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67960" y="2563920"/>
              <a:ext cx="1775520" cy="42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41040" y="2628000"/>
              <a:ext cx="173304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39240" y="2634120"/>
              <a:ext cx="16113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39960" y="2641680"/>
              <a:ext cx="1590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1998 / 1999 IT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965360" y="263988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39400" y="480600"/>
              <a:ext cx="55188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51960" y="508680"/>
              <a:ext cx="59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39400" y="1008000"/>
              <a:ext cx="55188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51960" y="103212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9400" y="1523520"/>
              <a:ext cx="551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51960" y="155124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39400" y="2058480"/>
              <a:ext cx="55188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51960" y="208656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39400" y="2620080"/>
              <a:ext cx="5518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51960" y="263988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4440" y="3165120"/>
              <a:ext cx="55044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55560" y="318888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86560" y="3682800"/>
              <a:ext cx="551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51960" y="370440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86560" y="4239720"/>
              <a:ext cx="55188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51960" y="4265640"/>
              <a:ext cx="59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6560" y="4765320"/>
              <a:ext cx="5518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51960" y="478872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86560" y="5324400"/>
              <a:ext cx="551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16200000">
              <a:off x="387720" y="4358520"/>
              <a:ext cx="366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3640" y="1828080"/>
              <a:ext cx="276120" cy="221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16200000">
              <a:off x="404280" y="3276360"/>
              <a:ext cx="104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(DRAM Hal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6200000">
              <a:off x="664920" y="218772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itch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37600" y="544680"/>
              <a:ext cx="360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37600" y="546480"/>
              <a:ext cx="3247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37240" y="554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37600" y="1067760"/>
              <a:ext cx="36036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37600" y="1073880"/>
              <a:ext cx="324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37240" y="1081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37600" y="1589400"/>
              <a:ext cx="360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37600" y="1589400"/>
              <a:ext cx="324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37240" y="159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137600" y="2122200"/>
              <a:ext cx="36036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37600" y="2128680"/>
              <a:ext cx="324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37240" y="213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37600" y="2677680"/>
              <a:ext cx="360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137600" y="2683440"/>
              <a:ext cx="3247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137240" y="2691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144440" y="3227040"/>
              <a:ext cx="360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45880" y="3228840"/>
              <a:ext cx="3247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44800" y="32367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31920" y="3742200"/>
              <a:ext cx="267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33360" y="3744000"/>
              <a:ext cx="2174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32640" y="3750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31920" y="4297320"/>
              <a:ext cx="26784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33360" y="430740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32640" y="4315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31920" y="4824720"/>
              <a:ext cx="267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33360" y="4830840"/>
              <a:ext cx="2174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32640" y="4838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31920" y="5382000"/>
              <a:ext cx="2678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33360" y="5383800"/>
              <a:ext cx="2174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32640" y="5389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451960" y="534600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2840" y="5545080"/>
              <a:ext cx="3362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815560" y="5604480"/>
              <a:ext cx="26964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15560" y="5610960"/>
              <a:ext cx="2160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4840" y="5618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99520" y="5571360"/>
              <a:ext cx="59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81120" y="5537520"/>
              <a:ext cx="3376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56000" y="5594760"/>
              <a:ext cx="26784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57440" y="5600880"/>
              <a:ext cx="2160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56720" y="5608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39240" y="556308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26240" y="5537520"/>
              <a:ext cx="3344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99320" y="5594760"/>
              <a:ext cx="26784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97520" y="5600880"/>
              <a:ext cx="2156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96800" y="5608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84360" y="556308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98960" y="5533200"/>
              <a:ext cx="339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75280" y="5592960"/>
              <a:ext cx="26640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75280" y="5594760"/>
              <a:ext cx="2160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4560" y="5602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60680" y="555516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57640" y="5539320"/>
              <a:ext cx="3409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033960" y="5596920"/>
              <a:ext cx="266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33960" y="5600880"/>
              <a:ext cx="21600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33240" y="5608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17200" y="5567040"/>
              <a:ext cx="601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28920" y="5555160"/>
              <a:ext cx="3362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00560" y="5614920"/>
              <a:ext cx="26784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00560" y="561672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99840" y="5625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187400" y="5578920"/>
              <a:ext cx="583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79320" y="5555160"/>
              <a:ext cx="3942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953840" y="5608800"/>
              <a:ext cx="267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953840" y="5614920"/>
              <a:ext cx="2174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53120" y="5622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139240" y="5577120"/>
              <a:ext cx="583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37000" y="1702440"/>
              <a:ext cx="4855320" cy="2732040"/>
            </a:xfrm>
            <a:custGeom>
              <a:avLst/>
              <a:gdLst/>
              <a:ahLst/>
              <a:rect l="l" t="t" r="r" b="b"/>
              <a:pathLst>
                <a:path w="5978" h="2745">
                  <a:moveTo>
                    <a:pt x="5970" y="2745"/>
                  </a:moveTo>
                  <a:lnTo>
                    <a:pt x="5978" y="2725"/>
                  </a:lnTo>
                  <a:lnTo>
                    <a:pt x="4774" y="2170"/>
                  </a:lnTo>
                  <a:lnTo>
                    <a:pt x="3597" y="1648"/>
                  </a:lnTo>
                  <a:lnTo>
                    <a:pt x="2405" y="1105"/>
                  </a:lnTo>
                  <a:lnTo>
                    <a:pt x="1599" y="732"/>
                  </a:lnTo>
                  <a:lnTo>
                    <a:pt x="805" y="540"/>
                  </a:lnTo>
                  <a:lnTo>
                    <a:pt x="803" y="550"/>
                  </a:lnTo>
                  <a:lnTo>
                    <a:pt x="805" y="540"/>
                  </a:lnTo>
                  <a:lnTo>
                    <a:pt x="12" y="0"/>
                  </a:lnTo>
                  <a:lnTo>
                    <a:pt x="0" y="18"/>
                  </a:lnTo>
                  <a:lnTo>
                    <a:pt x="795" y="558"/>
                  </a:lnTo>
                  <a:lnTo>
                    <a:pt x="799" y="560"/>
                  </a:lnTo>
                  <a:lnTo>
                    <a:pt x="1593" y="753"/>
                  </a:lnTo>
                  <a:lnTo>
                    <a:pt x="1593" y="743"/>
                  </a:lnTo>
                  <a:lnTo>
                    <a:pt x="1593" y="753"/>
                  </a:lnTo>
                  <a:lnTo>
                    <a:pt x="2397" y="1127"/>
                  </a:lnTo>
                  <a:lnTo>
                    <a:pt x="3589" y="1664"/>
                  </a:lnTo>
                  <a:lnTo>
                    <a:pt x="4763" y="2190"/>
                  </a:lnTo>
                  <a:lnTo>
                    <a:pt x="5970" y="274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87400" y="3300480"/>
              <a:ext cx="6562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47920" y="331848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41440" y="3300480"/>
              <a:ext cx="61200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9760" y="3318480"/>
              <a:ext cx="583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618800" y="3644640"/>
              <a:ext cx="597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67360" y="2230200"/>
              <a:ext cx="27360" cy="435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14" y="43"/>
                  </a:moveTo>
                  <a:lnTo>
                    <a:pt x="34" y="10"/>
                  </a:lnTo>
                  <a:lnTo>
                    <a:pt x="22" y="0"/>
                  </a:lnTo>
                  <a:lnTo>
                    <a:pt x="0" y="38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625640" y="4617720"/>
              <a:ext cx="1437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977080" y="4607640"/>
              <a:ext cx="59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37600" y="4890240"/>
              <a:ext cx="12117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66560" y="4884480"/>
              <a:ext cx="583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263320" y="538200"/>
              <a:ext cx="180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98480" y="526680"/>
              <a:ext cx="2880" cy="50562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20960" y="538200"/>
              <a:ext cx="1440" cy="5054400"/>
            </a:xfrm>
            <a:prstGeom prst="line">
              <a:avLst/>
            </a:prstGeom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34560" y="349200"/>
              <a:ext cx="2156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33840" y="355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34560" y="5610960"/>
              <a:ext cx="2156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33840" y="5618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92240" y="711720"/>
              <a:ext cx="1257120" cy="39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06640" y="715680"/>
              <a:ext cx="107208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06280" y="725760"/>
              <a:ext cx="105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2 NT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07640" y="649800"/>
              <a:ext cx="989280" cy="565200"/>
            </a:xfrm>
            <a:custGeom>
              <a:avLst/>
              <a:gdLst/>
              <a:ahLst/>
              <a:rect l="l" t="t" r="r" b="b"/>
              <a:pathLst>
                <a:path w="1217" h="569">
                  <a:moveTo>
                    <a:pt x="19" y="0"/>
                  </a:moveTo>
                  <a:lnTo>
                    <a:pt x="0" y="44"/>
                  </a:lnTo>
                  <a:lnTo>
                    <a:pt x="1197" y="569"/>
                  </a:lnTo>
                  <a:lnTo>
                    <a:pt x="1217" y="52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2504160" y="793440"/>
              <a:ext cx="374400" cy="182160"/>
              <a:chOff x="2504160" y="793440"/>
              <a:chExt cx="374400" cy="182160"/>
            </a:xfrm>
          </p:grpSpPr>
          <p:sp>
            <p:nvSpPr>
              <p:cNvPr id="617" name=""/>
              <p:cNvSpPr/>
              <p:nvPr/>
            </p:nvSpPr>
            <p:spPr>
              <a:xfrm>
                <a:off x="2648160" y="864720"/>
                <a:ext cx="23040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504160" y="793440"/>
                <a:ext cx="149400" cy="182160"/>
              </a:xfrm>
              <a:custGeom>
                <a:avLst/>
                <a:gdLst/>
                <a:ahLst/>
                <a:rect l="l" t="t" r="r" b="b"/>
                <a:pathLst>
                  <a:path w="184" h="183">
                    <a:moveTo>
                      <a:pt x="184" y="0"/>
                    </a:moveTo>
                    <a:lnTo>
                      <a:pt x="0" y="90"/>
                    </a:lnTo>
                    <a:lnTo>
                      <a:pt x="184" y="183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1857600" y="562320"/>
              <a:ext cx="110160" cy="216720"/>
            </a:xfrm>
            <a:custGeom>
              <a:avLst/>
              <a:gdLst/>
              <a:ahLst/>
              <a:rect l="l" t="t" r="r" b="b"/>
              <a:pathLst>
                <a:path w="137" h="218">
                  <a:moveTo>
                    <a:pt x="68" y="0"/>
                  </a:moveTo>
                  <a:lnTo>
                    <a:pt x="0" y="109"/>
                  </a:lnTo>
                  <a:lnTo>
                    <a:pt x="68" y="218"/>
                  </a:lnTo>
                  <a:lnTo>
                    <a:pt x="137" y="109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71800" y="2745360"/>
              <a:ext cx="124560" cy="13716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7" y="0"/>
                  </a:moveTo>
                  <a:lnTo>
                    <a:pt x="0" y="69"/>
                  </a:lnTo>
                  <a:lnTo>
                    <a:pt x="37" y="138"/>
                  </a:lnTo>
                  <a:lnTo>
                    <a:pt x="115" y="138"/>
                  </a:lnTo>
                  <a:lnTo>
                    <a:pt x="154" y="69"/>
                  </a:lnTo>
                  <a:lnTo>
                    <a:pt x="11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9800" y="3280680"/>
              <a:ext cx="124920" cy="13716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8" y="0"/>
                  </a:moveTo>
                  <a:lnTo>
                    <a:pt x="0" y="69"/>
                  </a:lnTo>
                  <a:lnTo>
                    <a:pt x="38" y="138"/>
                  </a:lnTo>
                  <a:lnTo>
                    <a:pt x="115" y="138"/>
                  </a:lnTo>
                  <a:lnTo>
                    <a:pt x="154" y="69"/>
                  </a:lnTo>
                  <a:lnTo>
                    <a:pt x="11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83560" y="2243520"/>
              <a:ext cx="2655720" cy="2234880"/>
            </a:xfrm>
            <a:custGeom>
              <a:avLst/>
              <a:gdLst/>
              <a:ahLst/>
              <a:rect l="l" t="t" r="r" b="b"/>
              <a:pathLst>
                <a:path w="3268" h="2247">
                  <a:moveTo>
                    <a:pt x="25" y="0"/>
                  </a:moveTo>
                  <a:lnTo>
                    <a:pt x="0" y="37"/>
                  </a:lnTo>
                  <a:lnTo>
                    <a:pt x="3242" y="2247"/>
                  </a:lnTo>
                  <a:lnTo>
                    <a:pt x="3268" y="220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5477040" y="3324240"/>
              <a:ext cx="967680" cy="552600"/>
              <a:chOff x="5477040" y="3324240"/>
              <a:chExt cx="967680" cy="552600"/>
            </a:xfrm>
          </p:grpSpPr>
          <p:sp>
            <p:nvSpPr>
              <p:cNvPr id="624" name=""/>
              <p:cNvSpPr/>
              <p:nvPr/>
            </p:nvSpPr>
            <p:spPr>
              <a:xfrm>
                <a:off x="5477040" y="3324240"/>
                <a:ext cx="50040" cy="6336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20" y="0"/>
                    </a:moveTo>
                    <a:lnTo>
                      <a:pt x="0" y="43"/>
                    </a:lnTo>
                    <a:lnTo>
                      <a:pt x="44" y="63"/>
                    </a:lnTo>
                    <a:lnTo>
                      <a:pt x="64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546520" y="3362040"/>
                <a:ext cx="51840" cy="6336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20" y="0"/>
                    </a:moveTo>
                    <a:lnTo>
                      <a:pt x="0" y="44"/>
                    </a:lnTo>
                    <a:lnTo>
                      <a:pt x="44" y="63"/>
                    </a:lnTo>
                    <a:lnTo>
                      <a:pt x="64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617800" y="339948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20" y="0"/>
                    </a:moveTo>
                    <a:lnTo>
                      <a:pt x="0" y="43"/>
                    </a:lnTo>
                    <a:lnTo>
                      <a:pt x="44" y="63"/>
                    </a:lnTo>
                    <a:lnTo>
                      <a:pt x="64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688000" y="3439440"/>
                <a:ext cx="5184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4"/>
                    </a:lnTo>
                    <a:lnTo>
                      <a:pt x="44" y="61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759280" y="347508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3"/>
                    </a:lnTo>
                    <a:lnTo>
                      <a:pt x="44" y="61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29480" y="351288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20" y="0"/>
                    </a:moveTo>
                    <a:lnTo>
                      <a:pt x="0" y="44"/>
                    </a:lnTo>
                    <a:lnTo>
                      <a:pt x="44" y="62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900760" y="3551040"/>
                <a:ext cx="5004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20" y="0"/>
                    </a:moveTo>
                    <a:lnTo>
                      <a:pt x="0" y="43"/>
                    </a:lnTo>
                    <a:lnTo>
                      <a:pt x="44" y="63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970600" y="358848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20" y="0"/>
                    </a:moveTo>
                    <a:lnTo>
                      <a:pt x="0" y="44"/>
                    </a:lnTo>
                    <a:lnTo>
                      <a:pt x="43" y="64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040440" y="3624480"/>
                <a:ext cx="5184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20" y="0"/>
                    </a:moveTo>
                    <a:lnTo>
                      <a:pt x="0" y="43"/>
                    </a:lnTo>
                    <a:lnTo>
                      <a:pt x="43" y="63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112080" y="366408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20" y="0"/>
                    </a:moveTo>
                    <a:lnTo>
                      <a:pt x="0" y="44"/>
                    </a:lnTo>
                    <a:lnTo>
                      <a:pt x="43" y="62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181560" y="3701880"/>
                <a:ext cx="52200" cy="612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3"/>
                    </a:lnTo>
                    <a:lnTo>
                      <a:pt x="43" y="61"/>
                    </a:lnTo>
                    <a:lnTo>
                      <a:pt x="63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52840" y="3739680"/>
                <a:ext cx="5220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3"/>
                    </a:lnTo>
                    <a:lnTo>
                      <a:pt x="43" y="61"/>
                    </a:lnTo>
                    <a:lnTo>
                      <a:pt x="63" y="1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323040" y="377712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9" y="0"/>
                    </a:moveTo>
                    <a:lnTo>
                      <a:pt x="0" y="44"/>
                    </a:lnTo>
                    <a:lnTo>
                      <a:pt x="43" y="63"/>
                    </a:lnTo>
                    <a:lnTo>
                      <a:pt x="63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394320" y="3813480"/>
                <a:ext cx="5040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9" y="0"/>
                    </a:moveTo>
                    <a:lnTo>
                      <a:pt x="0" y="43"/>
                    </a:lnTo>
                    <a:lnTo>
                      <a:pt x="43" y="63"/>
                    </a:lnTo>
                    <a:lnTo>
                      <a:pt x="63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1940400" y="711720"/>
              <a:ext cx="943560" cy="506880"/>
            </a:xfrm>
            <a:custGeom>
              <a:avLst/>
              <a:gdLst/>
              <a:ahLst/>
              <a:rect l="l" t="t" r="r" b="b"/>
              <a:pathLst>
                <a:path w="1162" h="509">
                  <a:moveTo>
                    <a:pt x="14" y="0"/>
                  </a:moveTo>
                  <a:lnTo>
                    <a:pt x="0" y="33"/>
                  </a:lnTo>
                  <a:lnTo>
                    <a:pt x="1148" y="509"/>
                  </a:lnTo>
                  <a:lnTo>
                    <a:pt x="1162" y="47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890440" y="1189080"/>
              <a:ext cx="646200" cy="557280"/>
            </a:xfrm>
            <a:custGeom>
              <a:avLst/>
              <a:gdLst/>
              <a:ahLst/>
              <a:rect l="l" t="t" r="r" b="b"/>
              <a:pathLst>
                <a:path w="796" h="559">
                  <a:moveTo>
                    <a:pt x="20" y="0"/>
                  </a:moveTo>
                  <a:lnTo>
                    <a:pt x="0" y="29"/>
                  </a:lnTo>
                  <a:lnTo>
                    <a:pt x="777" y="559"/>
                  </a:lnTo>
                  <a:lnTo>
                    <a:pt x="796" y="52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21600" y="3362400"/>
              <a:ext cx="2538720" cy="39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634120" y="3399840"/>
              <a:ext cx="269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35560" y="3407760"/>
              <a:ext cx="24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International SEMAT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5109480" y="3694320"/>
              <a:ext cx="1175760" cy="614160"/>
              <a:chOff x="5109480" y="3694320"/>
              <a:chExt cx="1175760" cy="614160"/>
            </a:xfrm>
          </p:grpSpPr>
          <p:sp>
            <p:nvSpPr>
              <p:cNvPr id="644" name=""/>
              <p:cNvSpPr/>
              <p:nvPr/>
            </p:nvSpPr>
            <p:spPr>
              <a:xfrm>
                <a:off x="5109480" y="3694320"/>
                <a:ext cx="996840" cy="497520"/>
              </a:xfrm>
              <a:custGeom>
                <a:avLst/>
                <a:gdLst/>
                <a:ahLst/>
                <a:rect l="l" t="t" r="r" b="b"/>
                <a:pathLst>
                  <a:path w="1090" h="332">
                    <a:moveTo>
                      <a:pt x="12" y="0"/>
                    </a:moveTo>
                    <a:lnTo>
                      <a:pt x="0" y="45"/>
                    </a:lnTo>
                    <a:lnTo>
                      <a:pt x="1079" y="332"/>
                    </a:lnTo>
                    <a:lnTo>
                      <a:pt x="1090" y="28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069960" y="4002840"/>
                <a:ext cx="215280" cy="305640"/>
              </a:xfrm>
              <a:custGeom>
                <a:avLst/>
                <a:gdLst/>
                <a:ahLst/>
                <a:rect l="l" t="t" r="r" b="b"/>
                <a:pathLst>
                  <a:path w="235" h="206">
                    <a:moveTo>
                      <a:pt x="0" y="206"/>
                    </a:moveTo>
                    <a:lnTo>
                      <a:pt x="235" y="160"/>
                    </a:lnTo>
                    <a:lnTo>
                      <a:pt x="55" y="0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3330720" y="4699440"/>
              <a:ext cx="3650040" cy="49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496320" y="4767120"/>
              <a:ext cx="33462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00640" y="4776840"/>
              <a:ext cx="27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33"/>
                  </a:solidFill>
                  <a:latin typeface="Arial"/>
                </a:rPr>
                <a:t>Area for Future Accel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643080" y="4251600"/>
              <a:ext cx="256680" cy="345960"/>
            </a:xfrm>
            <a:custGeom>
              <a:avLst/>
              <a:gdLst/>
              <a:ahLst/>
              <a:rect l="l" t="t" r="r" b="b"/>
              <a:pathLst>
                <a:path w="316" h="348">
                  <a:moveTo>
                    <a:pt x="316" y="174"/>
                  </a:moveTo>
                  <a:lnTo>
                    <a:pt x="186" y="143"/>
                  </a:lnTo>
                  <a:lnTo>
                    <a:pt x="158" y="0"/>
                  </a:lnTo>
                  <a:lnTo>
                    <a:pt x="130" y="143"/>
                  </a:lnTo>
                  <a:lnTo>
                    <a:pt x="0" y="174"/>
                  </a:lnTo>
                  <a:lnTo>
                    <a:pt x="130" y="206"/>
                  </a:lnTo>
                  <a:lnTo>
                    <a:pt x="158" y="348"/>
                  </a:lnTo>
                  <a:lnTo>
                    <a:pt x="186" y="206"/>
                  </a:lnTo>
                  <a:lnTo>
                    <a:pt x="316" y="17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01560" y="3684600"/>
              <a:ext cx="256680" cy="345960"/>
            </a:xfrm>
            <a:custGeom>
              <a:avLst/>
              <a:gdLst/>
              <a:ahLst/>
              <a:rect l="l" t="t" r="r" b="b"/>
              <a:pathLst>
                <a:path w="316" h="348">
                  <a:moveTo>
                    <a:pt x="316" y="174"/>
                  </a:moveTo>
                  <a:lnTo>
                    <a:pt x="185" y="142"/>
                  </a:lnTo>
                  <a:lnTo>
                    <a:pt x="158" y="0"/>
                  </a:lnTo>
                  <a:lnTo>
                    <a:pt x="130" y="142"/>
                  </a:lnTo>
                  <a:lnTo>
                    <a:pt x="0" y="174"/>
                  </a:lnTo>
                  <a:lnTo>
                    <a:pt x="130" y="206"/>
                  </a:lnTo>
                  <a:lnTo>
                    <a:pt x="158" y="348"/>
                  </a:lnTo>
                  <a:lnTo>
                    <a:pt x="185" y="206"/>
                  </a:lnTo>
                  <a:lnTo>
                    <a:pt x="316" y="17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84960" y="4768920"/>
              <a:ext cx="256320" cy="346320"/>
            </a:xfrm>
            <a:custGeom>
              <a:avLst/>
              <a:gdLst/>
              <a:ahLst/>
              <a:rect l="l" t="t" r="r" b="b"/>
              <a:pathLst>
                <a:path w="317" h="348">
                  <a:moveTo>
                    <a:pt x="317" y="174"/>
                  </a:moveTo>
                  <a:lnTo>
                    <a:pt x="186" y="142"/>
                  </a:lnTo>
                  <a:lnTo>
                    <a:pt x="158" y="0"/>
                  </a:lnTo>
                  <a:lnTo>
                    <a:pt x="131" y="142"/>
                  </a:lnTo>
                  <a:lnTo>
                    <a:pt x="0" y="174"/>
                  </a:lnTo>
                  <a:lnTo>
                    <a:pt x="131" y="205"/>
                  </a:lnTo>
                  <a:lnTo>
                    <a:pt x="158" y="348"/>
                  </a:lnTo>
                  <a:lnTo>
                    <a:pt x="186" y="205"/>
                  </a:lnTo>
                  <a:lnTo>
                    <a:pt x="317" y="17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926120" y="5336280"/>
              <a:ext cx="256680" cy="345960"/>
            </a:xfrm>
            <a:custGeom>
              <a:avLst/>
              <a:gdLst/>
              <a:ahLst/>
              <a:rect l="l" t="t" r="r" b="b"/>
              <a:pathLst>
                <a:path w="316" h="348">
                  <a:moveTo>
                    <a:pt x="316" y="174"/>
                  </a:moveTo>
                  <a:lnTo>
                    <a:pt x="186" y="142"/>
                  </a:lnTo>
                  <a:lnTo>
                    <a:pt x="158" y="0"/>
                  </a:lnTo>
                  <a:lnTo>
                    <a:pt x="130" y="142"/>
                  </a:lnTo>
                  <a:lnTo>
                    <a:pt x="0" y="174"/>
                  </a:lnTo>
                  <a:lnTo>
                    <a:pt x="130" y="206"/>
                  </a:lnTo>
                  <a:lnTo>
                    <a:pt x="158" y="348"/>
                  </a:lnTo>
                  <a:lnTo>
                    <a:pt x="186" y="206"/>
                  </a:lnTo>
                  <a:lnTo>
                    <a:pt x="316" y="17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6727680" y="4368960"/>
              <a:ext cx="1255320" cy="1087920"/>
              <a:chOff x="6727680" y="4368960"/>
              <a:chExt cx="1255320" cy="1087920"/>
            </a:xfrm>
          </p:grpSpPr>
          <p:sp>
            <p:nvSpPr>
              <p:cNvPr id="654" name=""/>
              <p:cNvSpPr/>
              <p:nvPr/>
            </p:nvSpPr>
            <p:spPr>
              <a:xfrm>
                <a:off x="6727680" y="4368960"/>
                <a:ext cx="149400" cy="143280"/>
              </a:xfrm>
              <a:custGeom>
                <a:avLst/>
                <a:gdLst/>
                <a:ahLst/>
                <a:rect l="l" t="t" r="r" b="b"/>
                <a:pathLst>
                  <a:path w="183" h="144">
                    <a:moveTo>
                      <a:pt x="27" y="0"/>
                    </a:moveTo>
                    <a:lnTo>
                      <a:pt x="0" y="37"/>
                    </a:lnTo>
                    <a:lnTo>
                      <a:pt x="156" y="144"/>
                    </a:lnTo>
                    <a:lnTo>
                      <a:pt x="183" y="10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949800" y="4557960"/>
                <a:ext cx="149400" cy="142920"/>
              </a:xfrm>
              <a:custGeom>
                <a:avLst/>
                <a:gdLst/>
                <a:ahLst/>
                <a:rect l="l" t="t" r="r" b="b"/>
                <a:pathLst>
                  <a:path w="184" h="144">
                    <a:moveTo>
                      <a:pt x="28" y="0"/>
                    </a:moveTo>
                    <a:lnTo>
                      <a:pt x="0" y="37"/>
                    </a:lnTo>
                    <a:lnTo>
                      <a:pt x="156" y="144"/>
                    </a:lnTo>
                    <a:lnTo>
                      <a:pt x="184" y="10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170840" y="4746960"/>
                <a:ext cx="147600" cy="145080"/>
              </a:xfrm>
              <a:custGeom>
                <a:avLst/>
                <a:gdLst/>
                <a:ahLst/>
                <a:rect l="l" t="t" r="r" b="b"/>
                <a:pathLst>
                  <a:path w="182" h="146">
                    <a:moveTo>
                      <a:pt x="28" y="0"/>
                    </a:moveTo>
                    <a:lnTo>
                      <a:pt x="0" y="38"/>
                    </a:lnTo>
                    <a:lnTo>
                      <a:pt x="154" y="146"/>
                    </a:lnTo>
                    <a:lnTo>
                      <a:pt x="182" y="10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390080" y="4933800"/>
                <a:ext cx="149400" cy="147240"/>
              </a:xfrm>
              <a:custGeom>
                <a:avLst/>
                <a:gdLst/>
                <a:ahLst/>
                <a:rect l="l" t="t" r="r" b="b"/>
                <a:pathLst>
                  <a:path w="184" h="146">
                    <a:moveTo>
                      <a:pt x="27" y="0"/>
                    </a:moveTo>
                    <a:lnTo>
                      <a:pt x="0" y="37"/>
                    </a:lnTo>
                    <a:lnTo>
                      <a:pt x="156" y="146"/>
                    </a:lnTo>
                    <a:lnTo>
                      <a:pt x="184" y="109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612560" y="5122800"/>
                <a:ext cx="149400" cy="145080"/>
              </a:xfrm>
              <a:custGeom>
                <a:avLst/>
                <a:gdLst/>
                <a:ahLst/>
                <a:rect l="l" t="t" r="r" b="b"/>
                <a:pathLst>
                  <a:path w="184" h="146">
                    <a:moveTo>
                      <a:pt x="28" y="0"/>
                    </a:moveTo>
                    <a:lnTo>
                      <a:pt x="0" y="37"/>
                    </a:lnTo>
                    <a:lnTo>
                      <a:pt x="157" y="146"/>
                    </a:lnTo>
                    <a:lnTo>
                      <a:pt x="184" y="10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833600" y="5311800"/>
                <a:ext cx="149400" cy="1450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28" y="0"/>
                    </a:moveTo>
                    <a:lnTo>
                      <a:pt x="0" y="38"/>
                    </a:lnTo>
                    <a:lnTo>
                      <a:pt x="156" y="147"/>
                    </a:lnTo>
                    <a:lnTo>
                      <a:pt x="184" y="10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440040" y="3857760"/>
              <a:ext cx="952920" cy="586440"/>
              <a:chOff x="6440040" y="3857760"/>
              <a:chExt cx="952920" cy="586440"/>
            </a:xfrm>
          </p:grpSpPr>
          <p:sp>
            <p:nvSpPr>
              <p:cNvPr id="661" name=""/>
              <p:cNvSpPr/>
              <p:nvPr/>
            </p:nvSpPr>
            <p:spPr>
              <a:xfrm>
                <a:off x="6440040" y="3857760"/>
                <a:ext cx="50040" cy="612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2"/>
                    </a:lnTo>
                    <a:lnTo>
                      <a:pt x="43" y="61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508080" y="3897360"/>
                <a:ext cx="5184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1"/>
                    </a:lnTo>
                    <a:lnTo>
                      <a:pt x="43" y="61"/>
                    </a:lnTo>
                    <a:lnTo>
                      <a:pt x="63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577560" y="393912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20" y="0"/>
                    </a:moveTo>
                    <a:lnTo>
                      <a:pt x="0" y="42"/>
                    </a:lnTo>
                    <a:lnTo>
                      <a:pt x="41" y="61"/>
                    </a:lnTo>
                    <a:lnTo>
                      <a:pt x="61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647760" y="3976560"/>
                <a:ext cx="5184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20" y="0"/>
                    </a:moveTo>
                    <a:lnTo>
                      <a:pt x="0" y="41"/>
                    </a:lnTo>
                    <a:lnTo>
                      <a:pt x="43" y="63"/>
                    </a:lnTo>
                    <a:lnTo>
                      <a:pt x="63" y="2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715800" y="4018680"/>
                <a:ext cx="5184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2"/>
                    </a:lnTo>
                    <a:lnTo>
                      <a:pt x="43" y="61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787080" y="406044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20" y="0"/>
                    </a:moveTo>
                    <a:lnTo>
                      <a:pt x="0" y="41"/>
                    </a:lnTo>
                    <a:lnTo>
                      <a:pt x="41" y="61"/>
                    </a:lnTo>
                    <a:lnTo>
                      <a:pt x="61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55480" y="4100040"/>
                <a:ext cx="5220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2"/>
                    </a:lnTo>
                    <a:lnTo>
                      <a:pt x="43" y="61"/>
                    </a:lnTo>
                    <a:lnTo>
                      <a:pt x="63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925320" y="414000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20" y="0"/>
                    </a:moveTo>
                    <a:lnTo>
                      <a:pt x="0" y="41"/>
                    </a:lnTo>
                    <a:lnTo>
                      <a:pt x="43" y="61"/>
                    </a:lnTo>
                    <a:lnTo>
                      <a:pt x="63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995160" y="4179600"/>
                <a:ext cx="51840" cy="633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9" y="0"/>
                    </a:moveTo>
                    <a:lnTo>
                      <a:pt x="0" y="42"/>
                    </a:lnTo>
                    <a:lnTo>
                      <a:pt x="43" y="63"/>
                    </a:lnTo>
                    <a:lnTo>
                      <a:pt x="63" y="2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65000" y="422136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19" y="0"/>
                    </a:moveTo>
                    <a:lnTo>
                      <a:pt x="0" y="41"/>
                    </a:lnTo>
                    <a:lnTo>
                      <a:pt x="43" y="61"/>
                    </a:lnTo>
                    <a:lnTo>
                      <a:pt x="63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134840" y="4263120"/>
                <a:ext cx="50400" cy="5976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9" y="0"/>
                    </a:moveTo>
                    <a:lnTo>
                      <a:pt x="0" y="42"/>
                    </a:lnTo>
                    <a:lnTo>
                      <a:pt x="41" y="61"/>
                    </a:lnTo>
                    <a:lnTo>
                      <a:pt x="61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205040" y="4300920"/>
                <a:ext cx="5004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19" y="0"/>
                    </a:moveTo>
                    <a:lnTo>
                      <a:pt x="0" y="41"/>
                    </a:lnTo>
                    <a:lnTo>
                      <a:pt x="43" y="61"/>
                    </a:lnTo>
                    <a:lnTo>
                      <a:pt x="63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273080" y="4342680"/>
                <a:ext cx="51840" cy="612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19" y="0"/>
                    </a:moveTo>
                    <a:lnTo>
                      <a:pt x="0" y="42"/>
                    </a:lnTo>
                    <a:lnTo>
                      <a:pt x="43" y="61"/>
                    </a:lnTo>
                    <a:lnTo>
                      <a:pt x="63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344360" y="4382640"/>
                <a:ext cx="48600" cy="6156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20" y="0"/>
                    </a:moveTo>
                    <a:lnTo>
                      <a:pt x="0" y="41"/>
                    </a:lnTo>
                    <a:lnTo>
                      <a:pt x="42" y="63"/>
                    </a:lnTo>
                    <a:lnTo>
                      <a:pt x="62" y="2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7413120" y="4422600"/>
              <a:ext cx="975600" cy="527040"/>
              <a:chOff x="7413120" y="4422600"/>
              <a:chExt cx="975600" cy="527040"/>
            </a:xfrm>
          </p:grpSpPr>
          <p:sp>
            <p:nvSpPr>
              <p:cNvPr id="676" name=""/>
              <p:cNvSpPr/>
              <p:nvPr/>
            </p:nvSpPr>
            <p:spPr>
              <a:xfrm>
                <a:off x="7413120" y="442260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18" y="0"/>
                    </a:moveTo>
                    <a:lnTo>
                      <a:pt x="0" y="44"/>
                    </a:lnTo>
                    <a:lnTo>
                      <a:pt x="44" y="61"/>
                    </a:lnTo>
                    <a:lnTo>
                      <a:pt x="6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484400" y="4456080"/>
                <a:ext cx="48600" cy="6156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18" y="0"/>
                    </a:moveTo>
                    <a:lnTo>
                      <a:pt x="0" y="43"/>
                    </a:lnTo>
                    <a:lnTo>
                      <a:pt x="44" y="61"/>
                    </a:lnTo>
                    <a:lnTo>
                      <a:pt x="6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554240" y="4494240"/>
                <a:ext cx="50040" cy="6156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18" y="0"/>
                    </a:moveTo>
                    <a:lnTo>
                      <a:pt x="0" y="44"/>
                    </a:lnTo>
                    <a:lnTo>
                      <a:pt x="44" y="62"/>
                    </a:lnTo>
                    <a:lnTo>
                      <a:pt x="6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627320" y="4529880"/>
                <a:ext cx="48600" cy="6156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18" y="0"/>
                    </a:moveTo>
                    <a:lnTo>
                      <a:pt x="0" y="43"/>
                    </a:lnTo>
                    <a:lnTo>
                      <a:pt x="44" y="61"/>
                    </a:lnTo>
                    <a:lnTo>
                      <a:pt x="6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697160" y="4565880"/>
                <a:ext cx="50040" cy="59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18" y="0"/>
                    </a:moveTo>
                    <a:lnTo>
                      <a:pt x="0" y="44"/>
                    </a:lnTo>
                    <a:lnTo>
                      <a:pt x="44" y="62"/>
                    </a:lnTo>
                    <a:lnTo>
                      <a:pt x="61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768800" y="4601520"/>
                <a:ext cx="50040" cy="615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8" y="0"/>
                    </a:moveTo>
                    <a:lnTo>
                      <a:pt x="0" y="43"/>
                    </a:lnTo>
                    <a:lnTo>
                      <a:pt x="46" y="63"/>
                    </a:lnTo>
                    <a:lnTo>
                      <a:pt x="63" y="2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840080" y="4637160"/>
                <a:ext cx="50040" cy="6156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8" y="0"/>
                    </a:moveTo>
                    <a:lnTo>
                      <a:pt x="0" y="43"/>
                    </a:lnTo>
                    <a:lnTo>
                      <a:pt x="44" y="61"/>
                    </a:lnTo>
                    <a:lnTo>
                      <a:pt x="61" y="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911720" y="4673160"/>
                <a:ext cx="48600" cy="612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8" y="0"/>
                    </a:moveTo>
                    <a:lnTo>
                      <a:pt x="0" y="44"/>
                    </a:lnTo>
                    <a:lnTo>
                      <a:pt x="43" y="61"/>
                    </a:lnTo>
                    <a:lnTo>
                      <a:pt x="61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983000" y="4708800"/>
                <a:ext cx="50400" cy="594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8" y="0"/>
                    </a:moveTo>
                    <a:lnTo>
                      <a:pt x="0" y="43"/>
                    </a:lnTo>
                    <a:lnTo>
                      <a:pt x="43" y="61"/>
                    </a:lnTo>
                    <a:lnTo>
                      <a:pt x="61" y="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052480" y="474444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18" y="0"/>
                    </a:moveTo>
                    <a:lnTo>
                      <a:pt x="0" y="44"/>
                    </a:lnTo>
                    <a:lnTo>
                      <a:pt x="43" y="63"/>
                    </a:lnTo>
                    <a:lnTo>
                      <a:pt x="61" y="2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124120" y="4780440"/>
                <a:ext cx="52200" cy="6156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18" y="0"/>
                    </a:moveTo>
                    <a:lnTo>
                      <a:pt x="0" y="43"/>
                    </a:lnTo>
                    <a:lnTo>
                      <a:pt x="45" y="61"/>
                    </a:lnTo>
                    <a:lnTo>
                      <a:pt x="63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195400" y="4816080"/>
                <a:ext cx="50400" cy="6156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18" y="0"/>
                    </a:moveTo>
                    <a:lnTo>
                      <a:pt x="0" y="44"/>
                    </a:lnTo>
                    <a:lnTo>
                      <a:pt x="43" y="62"/>
                    </a:lnTo>
                    <a:lnTo>
                      <a:pt x="61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267400" y="4852440"/>
                <a:ext cx="48600" cy="6120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7" y="0"/>
                    </a:moveTo>
                    <a:lnTo>
                      <a:pt x="0" y="43"/>
                    </a:lnTo>
                    <a:lnTo>
                      <a:pt x="43" y="61"/>
                    </a:lnTo>
                    <a:lnTo>
                      <a:pt x="61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336880" y="4889880"/>
                <a:ext cx="51840" cy="59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17" y="0"/>
                    </a:moveTo>
                    <a:lnTo>
                      <a:pt x="0" y="44"/>
                    </a:lnTo>
                    <a:lnTo>
                      <a:pt x="45" y="62"/>
                    </a:lnTo>
                    <a:lnTo>
                      <a:pt x="63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6393240" y="3797640"/>
              <a:ext cx="124560" cy="13932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7" y="0"/>
                  </a:moveTo>
                  <a:lnTo>
                    <a:pt x="0" y="69"/>
                  </a:lnTo>
                  <a:lnTo>
                    <a:pt x="37" y="138"/>
                  </a:lnTo>
                  <a:lnTo>
                    <a:pt x="114" y="138"/>
                  </a:lnTo>
                  <a:lnTo>
                    <a:pt x="154" y="69"/>
                  </a:lnTo>
                  <a:lnTo>
                    <a:pt x="11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56240" y="4365000"/>
              <a:ext cx="124560" cy="13716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8" y="0"/>
                  </a:moveTo>
                  <a:lnTo>
                    <a:pt x="0" y="69"/>
                  </a:lnTo>
                  <a:lnTo>
                    <a:pt x="38" y="138"/>
                  </a:lnTo>
                  <a:lnTo>
                    <a:pt x="115" y="138"/>
                  </a:lnTo>
                  <a:lnTo>
                    <a:pt x="154" y="69"/>
                  </a:lnTo>
                  <a:lnTo>
                    <a:pt x="11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37240" y="4884480"/>
              <a:ext cx="124920" cy="13716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37" y="0"/>
                  </a:moveTo>
                  <a:lnTo>
                    <a:pt x="0" y="69"/>
                  </a:lnTo>
                  <a:lnTo>
                    <a:pt x="37" y="138"/>
                  </a:lnTo>
                  <a:lnTo>
                    <a:pt x="114" y="138"/>
                  </a:lnTo>
                  <a:lnTo>
                    <a:pt x="154" y="69"/>
                  </a:lnTo>
                  <a:lnTo>
                    <a:pt x="11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6732360" y="4440960"/>
              <a:ext cx="309960" cy="393480"/>
              <a:chOff x="6732360" y="4440960"/>
              <a:chExt cx="309960" cy="393480"/>
            </a:xfrm>
          </p:grpSpPr>
          <p:sp>
            <p:nvSpPr>
              <p:cNvPr id="694" name=""/>
              <p:cNvSpPr/>
              <p:nvPr/>
            </p:nvSpPr>
            <p:spPr>
              <a:xfrm>
                <a:off x="6732360" y="4572000"/>
                <a:ext cx="207720" cy="262440"/>
              </a:xfrm>
              <a:custGeom>
                <a:avLst/>
                <a:gdLst/>
                <a:ahLst/>
                <a:rect l="l" t="t" r="r" b="b"/>
                <a:pathLst>
                  <a:path w="255" h="265">
                    <a:moveTo>
                      <a:pt x="0" y="232"/>
                    </a:moveTo>
                    <a:lnTo>
                      <a:pt x="33" y="265"/>
                    </a:lnTo>
                    <a:lnTo>
                      <a:pt x="255" y="34"/>
                    </a:lnTo>
                    <a:lnTo>
                      <a:pt x="221" y="0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58720" y="4440960"/>
                <a:ext cx="183600" cy="226080"/>
              </a:xfrm>
              <a:custGeom>
                <a:avLst/>
                <a:gdLst/>
                <a:ahLst/>
                <a:rect l="l" t="t" r="r" b="b"/>
                <a:pathLst>
                  <a:path w="225" h="227">
                    <a:moveTo>
                      <a:pt x="154" y="227"/>
                    </a:moveTo>
                    <a:lnTo>
                      <a:pt x="225" y="0"/>
                    </a:lnTo>
                    <a:lnTo>
                      <a:pt x="0" y="79"/>
                    </a:lnTo>
                    <a:lnTo>
                      <a:pt x="154" y="227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4037760" y="1388160"/>
              <a:ext cx="307800" cy="379440"/>
              <a:chOff x="4037760" y="1388160"/>
              <a:chExt cx="307800" cy="379440"/>
            </a:xfrm>
          </p:grpSpPr>
          <p:sp>
            <p:nvSpPr>
              <p:cNvPr id="697" name=""/>
              <p:cNvSpPr/>
              <p:nvPr/>
            </p:nvSpPr>
            <p:spPr>
              <a:xfrm>
                <a:off x="4142880" y="1388160"/>
                <a:ext cx="202680" cy="250560"/>
              </a:xfrm>
              <a:custGeom>
                <a:avLst/>
                <a:gdLst/>
                <a:ahLst/>
                <a:rect l="l" t="t" r="r" b="b"/>
                <a:pathLst>
                  <a:path w="251" h="251">
                    <a:moveTo>
                      <a:pt x="0" y="218"/>
                    </a:moveTo>
                    <a:lnTo>
                      <a:pt x="34" y="251"/>
                    </a:lnTo>
                    <a:lnTo>
                      <a:pt x="251" y="34"/>
                    </a:lnTo>
                    <a:lnTo>
                      <a:pt x="218" y="0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037760" y="1541160"/>
                <a:ext cx="183240" cy="226440"/>
              </a:xfrm>
              <a:custGeom>
                <a:avLst/>
                <a:gdLst/>
                <a:ahLst/>
                <a:rect l="l" t="t" r="r" b="b"/>
                <a:pathLst>
                  <a:path w="225" h="228">
                    <a:moveTo>
                      <a:pt x="75" y="0"/>
                    </a:moveTo>
                    <a:lnTo>
                      <a:pt x="0" y="228"/>
                    </a:lnTo>
                    <a:lnTo>
                      <a:pt x="225" y="15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5270760" y="2080800"/>
              <a:ext cx="462240" cy="598320"/>
              <a:chOff x="5270760" y="2080800"/>
              <a:chExt cx="462240" cy="598320"/>
            </a:xfrm>
          </p:grpSpPr>
          <p:sp>
            <p:nvSpPr>
              <p:cNvPr id="700" name=""/>
              <p:cNvSpPr/>
              <p:nvPr/>
            </p:nvSpPr>
            <p:spPr>
              <a:xfrm>
                <a:off x="5371200" y="2080800"/>
                <a:ext cx="361800" cy="462960"/>
              </a:xfrm>
              <a:custGeom>
                <a:avLst/>
                <a:gdLst/>
                <a:ahLst/>
                <a:rect l="l" t="t" r="r" b="b"/>
                <a:pathLst>
                  <a:path w="445" h="466">
                    <a:moveTo>
                      <a:pt x="0" y="435"/>
                    </a:moveTo>
                    <a:lnTo>
                      <a:pt x="34" y="466"/>
                    </a:lnTo>
                    <a:lnTo>
                      <a:pt x="445" y="31"/>
                    </a:lnTo>
                    <a:lnTo>
                      <a:pt x="41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270760" y="2452320"/>
                <a:ext cx="181440" cy="226800"/>
              </a:xfrm>
              <a:custGeom>
                <a:avLst/>
                <a:gdLst/>
                <a:ahLst/>
                <a:rect l="l" t="t" r="r" b="b"/>
                <a:pathLst>
                  <a:path w="224" h="230">
                    <a:moveTo>
                      <a:pt x="70" y="0"/>
                    </a:moveTo>
                    <a:lnTo>
                      <a:pt x="0" y="230"/>
                    </a:lnTo>
                    <a:lnTo>
                      <a:pt x="224" y="147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6773400" y="2990160"/>
              <a:ext cx="588960" cy="663840"/>
              <a:chOff x="6773400" y="2990160"/>
              <a:chExt cx="588960" cy="663840"/>
            </a:xfrm>
          </p:grpSpPr>
          <p:sp>
            <p:nvSpPr>
              <p:cNvPr id="703" name=""/>
              <p:cNvSpPr/>
              <p:nvPr/>
            </p:nvSpPr>
            <p:spPr>
              <a:xfrm>
                <a:off x="6881760" y="2990160"/>
                <a:ext cx="480600" cy="542880"/>
              </a:xfrm>
              <a:custGeom>
                <a:avLst/>
                <a:gdLst/>
                <a:ahLst/>
                <a:rect l="l" t="t" r="r" b="b"/>
                <a:pathLst>
                  <a:path w="591" h="545">
                    <a:moveTo>
                      <a:pt x="0" y="510"/>
                    </a:moveTo>
                    <a:lnTo>
                      <a:pt x="32" y="545"/>
                    </a:lnTo>
                    <a:lnTo>
                      <a:pt x="591" y="35"/>
                    </a:lnTo>
                    <a:lnTo>
                      <a:pt x="560" y="0"/>
                    </a:lnTo>
                    <a:lnTo>
                      <a:pt x="0" y="51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73400" y="3433320"/>
                <a:ext cx="186480" cy="220680"/>
              </a:xfrm>
              <a:custGeom>
                <a:avLst/>
                <a:gdLst/>
                <a:ahLst/>
                <a:rect l="l" t="t" r="r" b="b"/>
                <a:pathLst>
                  <a:path w="229" h="224">
                    <a:moveTo>
                      <a:pt x="85" y="0"/>
                    </a:moveTo>
                    <a:lnTo>
                      <a:pt x="0" y="224"/>
                    </a:lnTo>
                    <a:lnTo>
                      <a:pt x="229" y="15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507840" y="1662840"/>
              <a:ext cx="74520" cy="9504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95480" y="1189080"/>
              <a:ext cx="649440" cy="519120"/>
            </a:xfrm>
            <a:custGeom>
              <a:avLst/>
              <a:gdLst/>
              <a:ahLst/>
              <a:rect l="l" t="t" r="r" b="b"/>
              <a:pathLst>
                <a:path w="800" h="521">
                  <a:moveTo>
                    <a:pt x="18" y="0"/>
                  </a:moveTo>
                  <a:lnTo>
                    <a:pt x="0" y="29"/>
                  </a:lnTo>
                  <a:lnTo>
                    <a:pt x="782" y="521"/>
                  </a:lnTo>
                  <a:lnTo>
                    <a:pt x="800" y="49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f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854800" y="1127520"/>
              <a:ext cx="84600" cy="127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41440" y="2220120"/>
              <a:ext cx="87480" cy="7920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28" y="0"/>
                  </a:moveTo>
                  <a:lnTo>
                    <a:pt x="0" y="40"/>
                  </a:lnTo>
                  <a:lnTo>
                    <a:pt x="28" y="79"/>
                  </a:lnTo>
                  <a:lnTo>
                    <a:pt x="81" y="79"/>
                  </a:lnTo>
                  <a:lnTo>
                    <a:pt x="109" y="40"/>
                  </a:lnTo>
                  <a:lnTo>
                    <a:pt x="81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79480" y="1704240"/>
              <a:ext cx="595800" cy="515520"/>
            </a:xfrm>
            <a:custGeom>
              <a:avLst/>
              <a:gdLst/>
              <a:ahLst/>
              <a:rect l="l" t="t" r="r" b="b"/>
              <a:pathLst>
                <a:path w="735" h="518">
                  <a:moveTo>
                    <a:pt x="20" y="0"/>
                  </a:moveTo>
                  <a:lnTo>
                    <a:pt x="0" y="30"/>
                  </a:lnTo>
                  <a:lnTo>
                    <a:pt x="715" y="518"/>
                  </a:lnTo>
                  <a:lnTo>
                    <a:pt x="735" y="48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56440" y="1746360"/>
              <a:ext cx="615600" cy="537120"/>
            </a:xfrm>
            <a:custGeom>
              <a:avLst/>
              <a:gdLst/>
              <a:ahLst/>
              <a:rect l="l" t="t" r="r" b="b"/>
              <a:pathLst>
                <a:path w="759" h="539">
                  <a:moveTo>
                    <a:pt x="20" y="0"/>
                  </a:moveTo>
                  <a:lnTo>
                    <a:pt x="0" y="30"/>
                  </a:lnTo>
                  <a:lnTo>
                    <a:pt x="739" y="539"/>
                  </a:lnTo>
                  <a:lnTo>
                    <a:pt x="759" y="5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69160" y="6064560"/>
              <a:ext cx="677556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314080" y="6138000"/>
              <a:ext cx="1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6200000">
              <a:off x="-564840" y="3656160"/>
              <a:ext cx="36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02560" y="3378240"/>
              <a:ext cx="279000" cy="306360"/>
            </a:xfrm>
            <a:custGeom>
              <a:avLst/>
              <a:gdLst/>
              <a:ahLst/>
              <a:rect l="l" t="t" r="r" b="b"/>
              <a:pathLst>
                <a:path w="344" h="308">
                  <a:moveTo>
                    <a:pt x="172" y="0"/>
                  </a:moveTo>
                  <a:lnTo>
                    <a:pt x="132" y="119"/>
                  </a:lnTo>
                  <a:lnTo>
                    <a:pt x="0" y="119"/>
                  </a:lnTo>
                  <a:lnTo>
                    <a:pt x="107" y="192"/>
                  </a:lnTo>
                  <a:lnTo>
                    <a:pt x="67" y="308"/>
                  </a:lnTo>
                  <a:lnTo>
                    <a:pt x="172" y="237"/>
                  </a:lnTo>
                  <a:lnTo>
                    <a:pt x="276" y="308"/>
                  </a:lnTo>
                  <a:lnTo>
                    <a:pt x="237" y="192"/>
                  </a:lnTo>
                  <a:lnTo>
                    <a:pt x="344" y="119"/>
                  </a:lnTo>
                  <a:lnTo>
                    <a:pt x="211" y="119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4752360" y="2733120"/>
              <a:ext cx="3933360" cy="2315520"/>
              <a:chOff x="4752360" y="2733120"/>
              <a:chExt cx="3933360" cy="2315520"/>
            </a:xfrm>
          </p:grpSpPr>
          <p:grpSp>
            <p:nvGrpSpPr>
              <p:cNvPr id="716" name=""/>
              <p:cNvGrpSpPr/>
              <p:nvPr/>
            </p:nvGrpSpPr>
            <p:grpSpPr>
              <a:xfrm>
                <a:off x="4752360" y="2733120"/>
                <a:ext cx="3732120" cy="2315520"/>
                <a:chOff x="4752360" y="2733120"/>
                <a:chExt cx="3732120" cy="231552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4752360" y="2733120"/>
                  <a:ext cx="155520" cy="1908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405400" y="3258000"/>
                  <a:ext cx="155520" cy="1908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716800" y="3472920"/>
                  <a:ext cx="155880" cy="19116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701400" y="3998520"/>
                  <a:ext cx="155520" cy="1908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7666200" y="4547520"/>
                  <a:ext cx="155520" cy="1908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2" name=""/>
                <p:cNvGrpSpPr/>
                <p:nvPr/>
              </p:nvGrpSpPr>
              <p:grpSpPr>
                <a:xfrm>
                  <a:off x="4839840" y="2840400"/>
                  <a:ext cx="3547080" cy="2112120"/>
                  <a:chOff x="4839840" y="2840400"/>
                  <a:chExt cx="3547080" cy="211212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4839840" y="2840400"/>
                    <a:ext cx="642960" cy="513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5482800" y="3341520"/>
                    <a:ext cx="311760" cy="21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5804280" y="3568320"/>
                    <a:ext cx="964800" cy="513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788880" y="4105440"/>
                    <a:ext cx="964440" cy="54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7733880" y="4642200"/>
                    <a:ext cx="653040" cy="310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8" name=""/>
                <p:cNvSpPr/>
                <p:nvPr/>
              </p:nvSpPr>
              <p:spPr>
                <a:xfrm>
                  <a:off x="8328960" y="4857840"/>
                  <a:ext cx="155520" cy="1908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7279560" y="3003840"/>
                <a:ext cx="1406160" cy="1292760"/>
                <a:chOff x="7279560" y="3003840"/>
                <a:chExt cx="1406160" cy="129276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932240" y="3003840"/>
                  <a:ext cx="753480" cy="824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Arial"/>
                    </a:rPr>
                    <a:t>2001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/2003 ITRS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H="1">
                  <a:off x="7279560" y="3565080"/>
                  <a:ext cx="701280" cy="731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2" name=""/>
            <p:cNvSpPr/>
            <p:nvPr/>
          </p:nvSpPr>
          <p:spPr>
            <a:xfrm>
              <a:off x="1496880" y="5841720"/>
              <a:ext cx="46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*Note the 2003 ITRS  timing is unchanged from the 2001 IT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LE OF INFORMATION TECHNOLOGY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Prices, Investment, and Produ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09480" y="4876920"/>
            <a:ext cx="792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ITAL CONTRIBUTION BY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s, Communications Equipment, and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4920" y="2057400"/>
            <a:ext cx="8534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PUT SHARES OF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s, Communications Equipment, and Softw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028880" y="35053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ITAL CON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versus Non-IT Capital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17120" y="637236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91480" y="6372360"/>
            <a:ext cx="241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unications Equi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346440" y="63723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87360" y="639756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35080" y="6524640"/>
            <a:ext cx="533520" cy="0"/>
          </a:xfrm>
          <a:prstGeom prst="line">
            <a:avLst/>
          </a:prstGeom>
          <a:ln cap="sq"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963880" y="6384960"/>
            <a:ext cx="228600" cy="228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11600" y="6512040"/>
            <a:ext cx="533160" cy="0"/>
          </a:xfrm>
          <a:prstGeom prst="line">
            <a:avLst/>
          </a:prstGeom>
          <a:ln cap="sq"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02280" y="6384960"/>
            <a:ext cx="228600" cy="2286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50000" y="6512040"/>
            <a:ext cx="533160" cy="0"/>
          </a:xfrm>
          <a:prstGeom prst="line">
            <a:avLst/>
          </a:prstGeom>
          <a:ln cap="sq"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804440" y="63723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459560" y="638496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07280" y="6512040"/>
            <a:ext cx="53352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15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put Shares of Information Technology by Type, 1948-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0" y="473040"/>
            <a:ext cx="9144000" cy="5919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4:29:51Z</dcterms:created>
  <dc:creator>Jon Samuels</dc:creator>
  <dc:description/>
  <dc:language>en-US</dc:language>
  <cp:lastModifiedBy>cjq236</cp:lastModifiedBy>
  <dcterms:modified xsi:type="dcterms:W3CDTF">2006-05-11T09:12:43Z</dcterms:modified>
  <cp:revision>261</cp:revision>
  <dc:subject/>
  <dc:title>INFORMATION TECHNOLOGY AND U.S. ECONOMIC GROWTH</dc:title>
</cp:coreProperties>
</file>