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935D06-F7C0-48EF-A1E5-904A305B3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ecker arg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idence that the labor supply is hig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E70-C692-45CB-ABC5-DC6912F3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07D-B2AF-4772-A946-F49D72AC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F28-52F7-466B-AAFD-1710DD8B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E60-F218-4828-B8A5-C365CBC2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4AD-9E89-4D01-AF56-1EA0A009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D25-BC87-4285-BD4A-AB048F04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ED8-E29E-4B8C-B3FF-AB149708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6E5-7559-48F3-9832-3B81330D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2A2-0B23-4E2F-969E-00DDFB5E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1DF-CABF-413C-B020-C472A92D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CDB-0262-402B-9F51-FE4012F0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9C7-D8EE-45A5-A3B4-14633575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4E32-FC23-4562-9E5C-AFA5BF03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501"/>
              </a:spcBef>
              <a:spcAft>
                <a:spcPts val="37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to Finance Retirement with an Aging Population</a:t>
            </a:r>
            <a:br>
              <a:rPr sz="4400"/>
            </a:b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ward C. Prescott</a:t>
            </a:r>
            <a:br>
              <a:rPr sz="3400"/>
            </a:br>
            <a:br>
              <a:rPr sz="1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. P. Carey School of Business, Arizona State Univers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deral Reserve Bank of Minneapolis</a:t>
            </a:r>
            <a:br>
              <a:rPr sz="2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0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A64-5E6D-4B29-A204-52F93E74F1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-weight Loss of Tax and Transfer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big 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e labor supply elas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one dollar of additional taxes paid, a household must be given two dollars to leave it equally well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114-62DC-4CD7-A80F-B32766C4B8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tion of Aggregate Labor Supply Elast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38224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wealth constant, it is the percentage change in labor supplied associated with a 1% change in the after-tax real w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9EF-4DAC-49AA-AE21-1DD69BA7C8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Is Overwhelming Scientific Evidence that Aggregate Labor Supply Elasticit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FBD-E781-4809-BA9E-937C6E2BBA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ycle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n Kydland and I found that if and only if this elasticity is high, about 3, does the neoclassical growth model quantitatively predict all the key business cycle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tude of others have come up with the same finding (see Cooley 1995 volu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52E-C4A5-4C91-959F-8C037A5F2A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ression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mio Hayashi and I find this neoclassical growth model accounts for the behavior of the economic aggregates in Japan’s lost decade of growth, 1992-2002, if and only if this elasticity is abou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Kehoe and Prescott Depressions volumes (2002, 2005) for 15 other studies coming up with the same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731-F744-4CCE-933B-1F145BC7D8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 Country Labor Supply and Tax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found that differences in tax rates predict the large differences across the G-7 countries if and only if this elasticity is about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ricans, Chileans, and Japanese all work over 40% more than Western Europeans because their marginal tax rates are 40% and not 60% as in Wester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0FD-74C1-4F2C-8674-09EE413DC2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rease in Labor Supply in Spain: Tax Cut and Labor Market Re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981080"/>
          <a:ext cx="7858080" cy="400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5808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B59-D2C0-4594-8E1A-542BC8FEA5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oretical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gerson (1984) and Hansen (1985) use theory to establish that the aggregate elasticity is much greater than individual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margin of labor supply adjustment is the number employed and is not hours per employ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CC0-91D4-448F-AB65-99A524468F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st Adjustment Is in Number Emplo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busines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postwar depressions and prospe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s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life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131-F15F-4BE0-B6B2-4FEFF943CB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 Why Number Employed and Not Hours per Employed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nstein-Prescott (1993) find that theory predicts it in the empirically interesting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pirically interesting case is when payment per hour increases with the number of hours an employed person works in the relevant range of hours per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E3C-BF03-4612-BAD6-F697F582FD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 of Retir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 a decent minimal consumption level for all reti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untries have been using a pay-as-you-go system with benefits less than proportional to contributions on margin to achieve this ob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819-476C-411E-B368-4765F26ED9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ggregate labor supply elasticity is implied by aggregatio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predicts both the micro and macro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it i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ientific 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550-5277-43C9-97D5-85E45AF370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urther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other Nobel Prize winners who have been concerned with labor supply came to the same conclusion (i.e. Lucas, Heckman, and Beck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3AE-8420-44BF-BB2C-86B5C8E6E0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Mandatory Sav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ubject to the time consistenc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1FB-3BED-45B0-A5DE-A428399E7E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Good Retir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ory savings of 10% of wage and salary income in personal income accounts up to 1.0 times the average level of wage and salary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avings will provide a decent level of consumption for reti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 are in a low cost, highly diversified portfolio that realizes marke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4BD-FA80-4405-882A-BF1B599700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Illustrativ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ork for 45 years and then retire for 2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interest rate is 4% and productivity grows at 2%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x rate minus the Social Security retirement tax rate is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U.S.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2F6-90C4-4206-8C0F-79E5B67054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-as-You-Go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ecurity retirement tax finances 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rement benefits: 50% of average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debt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FCC-22BD-44D5-8A42-4507F4D727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Saving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retirement tax is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enefits are kept same as under pay-as-you-go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ory savings accounts for ret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7F1-584D-4255-B202-465E07D98F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1337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lfare Gains of Moving to a Personal Savings System Are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3BA-7DE5-4220-AB47-370B77CB7C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welfare in terms of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equival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3352680"/>
          <a:ext cx="5639040" cy="2583000"/>
        </p:xfrm>
        <a:graphic>
          <a:graphicData uri="http://schemas.openxmlformats.org/drawingml/2006/table">
            <a:tbl>
              <a:tblPr/>
              <a:tblGrid>
                <a:gridCol w="2463840"/>
                <a:gridCol w="946080"/>
                <a:gridCol w="222912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f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286-0764-4C4C-9D5D-31F39E0C75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ins much bigger in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social security taxes there are much higher than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bout 25% in lifetime consumption equival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779-6082-422E-8F29-24FB9EB99E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Aging Population this System Is Becoming Infea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, or will soon be, too few workers per reti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ill establish that increasing tax rates on workers cannot solve the problem; in Europe and in the U.S., increasing tax rates will not increase tax reve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86C-16F1-44E1-924F-A4A27C8C04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fare of everyone increases with mandatory personal savings accounts for 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opulation growth is not a problem with people saving for 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advice, don’t throw away 25% of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023-7934-46EE-B25F-409E3152F9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(25) of countries have adopted mandatory savings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xico these savings are growing rapidly and are being used to finance new businesses and home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B7E-97DA-4F85-836C-E75F7C96F5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weden their adoption in 1998 reduced the marginal tax rate and that economy has grown faster than the EU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should follow the lead of Eastern Europe, Sweden, Mexico, and a number of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6E9-C39A-4185-9D6A-0827979EF8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bout a Fully Funded, Proportional Benefits Sy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modest dead-weight taxation cost if population is g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not sustainable in democratic socie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9E5-BD78-40CC-9214-16BAC0689C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-weight Loss of Proportional Pay-as-You-Go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enefits are proportional to contributions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t loss if populat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loss if population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loss if population dec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250-5FAB-4104-9CBB-A7387DDA25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urn that people realize is less than the real interest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realize the market return, it is just forced saving and there is no dead-weight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ive capital stock will be smaller and output smaller, but no in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588-2693-466B-A971-2412B1BA32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ig Problem with PAYG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vitably the system evolves so that benefits are not proportional to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dditional benefits from working a few extra years are zero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dditional benefits to a household with two earners rather than one are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8ED-8445-47DB-99B0-54B4D6DE5A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Margin, Contribution to Retirement Account Is a 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.S. the tax rate for funding the public retirement system is 10.6 per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dead-weight loss is over 10 percent of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BF2-ABC5-42E6-A7F2-C1B728A2B3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olution: Mandatory Personal Savings Ac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are proportional to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on these savings are market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for governments to get their hands on these savings and redistribu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81A-1A68-459E-86EF-0FB861C98C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5:24:17Z</dcterms:created>
  <dc:creator>Hewitt</dc:creator>
  <dc:description/>
  <dc:language>en-US</dc:language>
  <cp:lastModifiedBy>cjq236</cp:lastModifiedBy>
  <dcterms:modified xsi:type="dcterms:W3CDTF">2005-07-13T15:19:26Z</dcterms:modified>
  <cp:revision>235</cp:revision>
  <dc:subject/>
  <dc:title>The Transformation of  Macroeconomic Policy and Research  2004 Nobel Address in Economics  Edward C. Prescott  December 8, 2004 </dc:title>
</cp:coreProperties>
</file>