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61D389-EF7A-4A0F-B66B-9ECD7D5F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cker arg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 that the labor supply is hig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85C-E024-49CC-89B8-8B255F75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819-0E24-4498-8DA9-F0EA5E34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6EE-A0EC-4CB1-84FB-BA952065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587-E1C8-47DC-AA3F-485A069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A72-150C-4E76-8D0B-B9EF0B6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6C3-AAB2-4CD9-993E-145F18C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A9A-3565-41B2-85C1-729A0DA8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DB3-5588-44A8-B04C-FA53D906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C01-A20C-4831-B664-591E504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E6E-3C99-48DE-83A9-C50E80B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E65-213D-429F-8E02-19081F9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14E-2D03-42DE-BE02-643B9A1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832-3C9E-4923-A2FA-4AACCEA8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501"/>
              </a:spcBef>
              <a:spcAft>
                <a:spcPts val="37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Finance Retirement with an Aging Population</a:t>
            </a:r>
            <a:br>
              <a:rPr sz="4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ward C. Prescott</a:t>
            </a:r>
            <a:br>
              <a:rPr sz="3400"/>
            </a:br>
            <a:br>
              <a:rPr sz="1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. P. Carey School of Business, Arizona State Univers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Reserve Bank of Minneapolis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0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500-4E57-403E-9FCA-04B3584AC8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-weight Loss of Tax and Transfe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ig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labor supply el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one dollar of additional taxes paid, a household must be given two dollars to leave it equally well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526-456A-49DC-B0D9-45DF64916A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 of Aggregate Labor Supply El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wealth constant, it is the percentage change in labor supplied associated with a 1% change in the after-tax real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FE1-A77C-4C11-B917-2374586395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Is Overwhelming Scientific Evidence that Aggregate Labor Supply Elastic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9B9-7772-4E6D-87F2-1B489A674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ycle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n Kydland and I found that if and only if this elasticity is high, about 3, does the neoclassical growth model quantitatively predict all the key business cycle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tude of others have come up with the same finding (see Cooley 1995 vol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CDA-6193-4E2E-9BAA-3B575FE5D6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ression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mio Hayashi and I find this neoclassical growth model accounts for the behavior of the economic aggregates in Japan’s lost decade of growth, 1992-2002, if and only if this elasticity is abou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Kehoe and Prescott Depressions volumes (2002, 2005) for 15 other studies coming up with the same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002-7DAC-41C1-89C9-FA679A309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 Country Labor Supply and Tax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found that differences in tax rates predict the large differences across the G-7 countries if and only if this elasticity is about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s, Chileans, and Japanese all work over 40% more than Western Europeans because their marginal tax rates are 40% and not 60% as in Wester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1FB-6932-42D1-812B-D98F396EA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e in Labor Supply in Spain: Tax Cut and Labor Market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981080"/>
          <a:ext cx="7858080" cy="40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580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66E-1D2C-4035-99FC-17DBE2405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etical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son (1984) and Hansen (1985) use theory to establish that the aggregate elasticity is much greater than individual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argin of labor supply adjustment is the number employed and is not hours per employ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E51-EB19-4669-9AE8-EAF50EA7F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Adjustment Is in Number Empl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postwar depressions and prospe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1B1-A98E-43A4-B1D9-D9D987EF6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 Why Number Employed and Not Hours per Employed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stein-Prescott (1993) find that theory predicts it in the empirically interesting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irically interesting case is when payment per hour increases with the number of hours an employed person works in the relevant range of hours per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4F7-9FB6-4304-AC66-FA93AD4EFB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 of Reti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a decent minimal consumption level for all reti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untries have been using a pay-as-you-go system with benefits less than proportional to contributions on margin to achieve this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79F-F8E1-4B08-A685-ECBF222C1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ggregate labor supply elasticity is implied by aggregat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predicts both the micro and macro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t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ientific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6FC-8CB7-45E7-B9E5-C4974C641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ur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other Nobel Prize winners who have been concerned with labor supply came to the same conclusion (i.e. Lucas, Heckman, and Be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92C-4EC4-41F6-B715-22F0799A6C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Mandatory Sav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ubject to the time consistenc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BAA-3348-4421-9A72-E6608ACFA3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ood Reti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savings of 10% of wage and salary income in personal income accounts up to 1.0 times the average level of wage and salar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avings will provide a decent level of consumption for reti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are in a low cost, highly diversified portfolio that realizes marke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2E6-2902-454C-ABED-0E740A1D7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llustrativ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ork for 45 years and then retire for 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interest rate is 4% and productivity grows at 2%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x rate minus the Social Security retirement tax rate i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U.S.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C23-1DBD-4C1C-8D87-66E7DD44AF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-as-You-Go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retirement tax finances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ment benefits: 50% of average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debt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3AE-882B-4A8E-B72A-BD5A8C02A8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Saving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retirement tax is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nefits are kept same as under pay-as-you-g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ory savings accounts for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31D-1A14-4573-BC15-F20F75A5D8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lfare Gains of Moving to a Personal Savings System Ar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848-B8D5-4866-8FA3-A27E501675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welfare in terms of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equiv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3352680"/>
          <a:ext cx="5639040" cy="2583000"/>
        </p:xfrm>
        <a:graphic>
          <a:graphicData uri="http://schemas.openxmlformats.org/drawingml/2006/table">
            <a:tbl>
              <a:tblPr/>
              <a:tblGrid>
                <a:gridCol w="2463840"/>
                <a:gridCol w="946080"/>
                <a:gridCol w="222912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f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21F-68D1-4A22-9BD6-68205D7A75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ins much bigger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social security taxes there are much higher than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bout 25% in lifetime consumption equival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BDC-ADB3-443C-8F0C-88299A1A01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Aging Population this System Is Becoming Infea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, or will soon be, too few workers per reti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establish that increasing tax rates on workers cannot solve the problem; in Europe and in the U.S., increasing tax rates will not increase tax re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79E-C766-4CFF-8D45-EF511D981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of everyone increases with mandatory personal savings accounts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opulation growth is not a problem with people saving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advice, don’t throw away 25% of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1C5-0FD0-42FD-AFD1-918D5770D7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(25) of countries have adopted mandatory savings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xico these savings are growing rapidly and are being used to finance new businesses and home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F4E-69D6-4634-9967-E9990DE212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weden their adoption in 1998 reduced the marginal tax rate and that economy has grown faster than the EU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should follow the lead of Eastern Europe, Sweden, Mexico, and a number of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B9E-2471-46D3-B7E1-116B7BD0FC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a Fully Funded, Proportional Benefits 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modest dead-weight taxation cost if population 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not sustainable in democratic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7C9-7A73-42F5-8490-6D6FAAD4B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-weight Loss of Proportional Pay-as-You-Go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nefits are proportional to contribution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t loss if populat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loss if populatio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loss if population dec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EF6-457E-4908-A70B-E353328A9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that people realize is less than the real interes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realize the market return, it is just forced saving and there is no dead-weight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ive capital stock will be smaller and output smaller, but no in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A4A-4D8E-4C12-8267-7C9AF7E73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roblem with PAY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vitably the system evolves so that benefits are not proportional to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ditional benefits from working a few extra years are zero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ditional benefits to a household with two earners rather than one are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4DA-919D-43B6-83B4-CA0F05DA6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Margin, Contribution to Retirement Account Is a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.S. the tax rate for funding the public retirement system is 10.6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dead-weight loss is over 10 percent of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522-B609-47F3-B4F2-953E6E382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olution: Mandatory Personal Savings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re proportional to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on these savings are market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for governments to get their hands on these savings and redistribu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37B-D2CF-48FC-A73D-E3FF7FC18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5:24:17Z</dcterms:created>
  <dc:creator>Hewitt</dc:creator>
  <dc:description/>
  <dc:language>en-US</dc:language>
  <cp:lastModifiedBy>cjq236</cp:lastModifiedBy>
  <dcterms:modified xsi:type="dcterms:W3CDTF">2005-07-13T15:19:26Z</dcterms:modified>
  <cp:revision>235</cp:revision>
  <dc:subject/>
  <dc:title>The Transformation of  Macroeconomic Policy and Research  2004 Nobel Address in Economics  Edward C. Prescott  December 8, 2004 </dc:title>
</cp:coreProperties>
</file>