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F14FB-06F4-4BCC-8B44-7EABB3409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C79DD-EF2F-4BB5-970C-170BDEFFC25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B08C8-1F1A-4A85-BB87-5A097FB3B9F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AA235-5330-490D-AA7D-1F8C6E8495F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C82FC-8614-4C37-8C67-E91468ACB56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E5EDC-9798-4998-A9E4-8C9DD955386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FEAE2-A7BE-40E9-8ED7-7013FF65FD8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4FF67-7269-41AE-B9C8-8FB7D7082C4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B0FB8-B618-4060-96D2-CFC3D9FA8BD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0551E-2F70-463E-B776-403BFFCF741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FD14A-9BDC-4E2D-BD6C-FA7E00A7B76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CED53-2C4E-4630-AD33-B4344491733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665CB-FB50-4056-87A4-366219DB87D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29289-4217-4C20-A1A5-666551E15B2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E198-5D6A-4EE8-842D-676FA4A0F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878040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3160" y="4086000"/>
            <a:ext cx="878040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C773-5AB2-41F4-887E-B071945A6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3160" y="408600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440" y="408600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6303-B8A4-4559-B32C-9A27DE595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2080" y="121608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0640" y="121608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3160" y="408600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2080" y="408600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0640" y="408600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54E7-D52F-4A79-95B8-17CB469DF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92240" y="253800"/>
            <a:ext cx="874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3160" y="408600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38D4-E979-457B-B4D2-2487EBAFF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440" y="408600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3160" y="4086000"/>
            <a:ext cx="878040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878040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3160" y="4086000"/>
            <a:ext cx="878040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3160" y="408600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440" y="408600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42080" y="121608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0640" y="121608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3160" y="408600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42080" y="408600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10640" y="4086000"/>
            <a:ext cx="282708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8A47-4D46-466F-9E18-625946B53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28A2-8B3F-4DD5-B557-6E6633BE1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5109-AE46-46C4-9DD7-D1130BE10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2240" y="253800"/>
            <a:ext cx="874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9615-DA05-464E-B381-A9F3F879C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3160" y="408600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3823-8AB8-4039-BAB6-52EFC8971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440" y="408600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23F1-ADAE-438F-BF11-865094DE3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216080"/>
            <a:ext cx="428472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3160" y="4086000"/>
            <a:ext cx="8780400" cy="26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AA38-ABA2-4000-8263-7F1D613DE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70880" y="6410160"/>
            <a:ext cx="4716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4B29-9B6F-40B3-BD98-57E79F4D664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165240" y="1015920"/>
            <a:ext cx="8775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enny Goldbe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inceton University, NBER and BRE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838080" y="228600"/>
            <a:ext cx="8001000" cy="31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ectual Property Rights Protection in Developing Countries: The Case of Pharmaceutic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2133720" y="2362320"/>
            <a:ext cx="5181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rshall Lec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uropean Economic Association Congress, Barcelo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gust 27, 20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ome) Important Differences between Developed and Developing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752480"/>
            <a:ext cx="864864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-capita health expenditures low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health insurance cove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fferent dise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orability, transportation and administration of drugs differ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ople may not purchase full dosage. As a resul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long-run elasticity may be smaller than short-run elast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external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893448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ng the health sect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low-income and developed economie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280" y="1079640"/>
          <a:ext cx="8991720" cy="5778360"/>
        </p:xfrm>
        <a:graphic>
          <a:graphicData uri="http://schemas.openxmlformats.org/drawingml/2006/table">
            <a:tbl>
              <a:tblPr/>
              <a:tblGrid>
                <a:gridCol w="2889000"/>
                <a:gridCol w="475200"/>
                <a:gridCol w="1121400"/>
                <a:gridCol w="173520"/>
                <a:gridCol w="969480"/>
                <a:gridCol w="1767600"/>
                <a:gridCol w="475200"/>
                <a:gridCol w="1120320"/>
              </a:tblGrid>
              <a:tr h="213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.S.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</a:tr>
              <a:tr h="21348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ation on health expenditu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health expenditures as % of GD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-capita total health expenditures ($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blic health expenditures as % of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vate health expenditures as % of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-of-pocket expenditures as % of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39600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p ten leading causes of burden of disease: all ag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.S.A. and Cana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u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LYs (0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u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LYs (0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ute lower respiratory infe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8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chaemic heart disea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9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inatal condi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,3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polar major de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arrhoeal diseas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,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cohol 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7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chaemic heart disea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6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ad traffic inju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ebrovascular disea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polar major de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6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steoarthri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uberculo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5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abetes mellit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genital abnormal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chea/bronchus/lung canc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ad traffic inju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2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nt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s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4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lf-inflicted inju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s of Major Therapeutic Segments in Retail Sale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a versus the World Mar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1049400"/>
          <a:ext cx="8534520" cy="5817960"/>
        </p:xfrm>
        <a:graphic>
          <a:graphicData uri="http://schemas.openxmlformats.org/drawingml/2006/table">
            <a:tbl>
              <a:tblPr/>
              <a:tblGrid>
                <a:gridCol w="3505320"/>
                <a:gridCol w="1066680"/>
                <a:gridCol w="1295280"/>
                <a:gridCol w="1371600"/>
                <a:gridCol w="1295640"/>
              </a:tblGrid>
              <a:tr h="33876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rapeutic seg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 of retail sales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ld: 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ia: 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are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are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34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diovascular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ntral nervous system (CN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33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imentary tract and metabolis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34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piratory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33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i-infectiv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34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sculo-skele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33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nito-urina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ytostatics and immunosuppress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33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rmatologic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34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od and blood-forming ag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sory orga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34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agnostic ag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ic hormonal produ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33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s including parasitolog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e have done in the context of Ind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Use detail product-level data from India to estimate key demand and supply parameters: own and cross-price elasticities, expenditure elasticities, marginal co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In the period covered by our data, India did not recognize pharmaceutical product patents; hence many products available that were under patent in the U.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arry out counterfactual analyses of what prices, consumer welfare, firm profits would have been had patents been in eff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asic Thought Experi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Had patents been in effect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omestic product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that were in violation of patents would have to b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withdraw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from the mar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Estimates of key demand and supply parameters can then be used to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simulat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the effects of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product withdraw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on prices, consumer welfare and profi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mitation of Analysi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IPS applies only post-1995. Most of the products that will be affected are still undergoing clinical trials in the U.S. and hence not in our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oes not tell us what will actually happen, but only what would have happened if patent laws had been enforced earlier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70588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se Study: Indian Pharmaceutical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nolone sub-segment of Systemic Anti-Bacterial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295280"/>
            <a:ext cx="864864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Why Indi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ding example of a low-income developing country that had not recognized paten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ong opposition to TRIPS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ease profile of Indian population mirrors that of many low-income countries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mestic Indian pharmaceutical industry was as of 2002 the largest producer of “generic” drugs (followed by Brazil). Market structure: many small and medium-sized domestic firms selling drugs that are patented elsewh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a’ s pharmaceutical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Indian Patents Act (1970)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excluded pharmaceutical product patent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, recognized process patents for a term of 7 ye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Leftward tilt in policy during 1970s: drug price controls, restrictions on foreign equity shares, capacity expan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Liberalization since early 1990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ramatic growth of Indian pharmaceutical industry in the last 30 ye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Indian firms are major export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India the largest producer of formulations, by volume, and a leading bulk drug produc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ion, exports, imports and domestic sales of pharmaceutical formulations (Rs. Billions)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\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Rs. billions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mulatio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\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Rs. billions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\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766800" y="1447920"/>
          <a:ext cx="715788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1447920"/>
                    <a:ext cx="71578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ion, exports, imports and domestic sales of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lk drugs(Rs. Billions)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\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Rs. billions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mulatio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\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Rs. billions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\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4" name="Object 1"/>
          <p:cNvGraphicFramePr/>
          <p:nvPr/>
        </p:nvGraphicFramePr>
        <p:xfrm>
          <a:off x="533520" y="1447920"/>
          <a:ext cx="809136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913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a’ s pharmaceutical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Market structure also changed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eclining share of multinational subsidiaries from about 80% to 90% in 1970 to roughly 30% in 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increase in number of firms in organized sector of the industry (roughly 400 firm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mushrooming of very small-scale uni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ground and 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1066680"/>
            <a:ext cx="8724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PR protection has emerged as a principal issue in domestic competition polic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international context: TRIPS &amp; WTO (1995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ber countries  had to recognize and enforce product patents in all fields of technology, including pharmaceutical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veloping countries had an extension of 10 years. Had to have patent protection by 200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re: Focus on pharmaceuticals because of the public policy importance of this sect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stion: Is there a case for harmonization of patent policies across countries at different stages of developmen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253800"/>
            <a:ext cx="87058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 20 firms by domestic retail pharmaceutical sales in Indi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762120"/>
          <a:ext cx="8267760" cy="5849640"/>
        </p:xfrm>
        <a:graphic>
          <a:graphicData uri="http://schemas.openxmlformats.org/drawingml/2006/table">
            <a:tbl>
              <a:tblPr/>
              <a:tblGrid>
                <a:gridCol w="750960"/>
                <a:gridCol w="1577880"/>
                <a:gridCol w="698400"/>
                <a:gridCol w="730440"/>
                <a:gridCol w="1195200"/>
                <a:gridCol w="308160"/>
                <a:gridCol w="377640"/>
                <a:gridCol w="374760"/>
                <a:gridCol w="750960"/>
                <a:gridCol w="752400"/>
                <a:gridCol w="750960"/>
              </a:tblGrid>
              <a:tr h="21348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n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gridSpan="10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rabha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lax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laxo SK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lax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ech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bax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fiz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fiz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p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emb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emb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cholas Piram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ech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offrey Man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n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der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roughs Wellc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bax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. Reddy’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 &amp; Bak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o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ydus Cadi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ke Dav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rman Remed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no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bot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chardson Hindust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fiz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arp &amp; D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ke Dav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ckhard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drid Gei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rner-Hindust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k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ch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c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p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t In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k, Sharp &amp; D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var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ndo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ynam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is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ch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arma Market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o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dil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rr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.C.F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nda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emb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rner Hindust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. Mer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dila Pharmaceuti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hn Wye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t In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213480">
                <a:tc gridSpan="4"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ign subsidiaries’ share of domestic retail sales 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-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-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-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-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stemic Anti-Bacterials (Antibiotic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Focus on th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systemic anti-bacterial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segment of the market, and within that on th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quinolon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sub-seg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Systemic anti-bacterials include all the original miracle drugs (for treatment of bacterial infections) that sparked the development of the research-based pharmaceutical industry as well as later generations of molecu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Systemic anti-bacterials accounted for about 20% of retail pharmaceutical sales in India in 20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Systemic anti-bacterials segment divided into several sub-segments, each representing a family of related molecu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803280" y="0"/>
            <a:ext cx="19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apeutic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egoriz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Oval 3"/>
          <p:cNvSpPr/>
          <p:nvPr/>
        </p:nvSpPr>
        <p:spPr>
          <a:xfrm>
            <a:off x="3352680" y="838080"/>
            <a:ext cx="2743200" cy="12193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harmaceut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09480" y="2590920"/>
            <a:ext cx="114300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di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scu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133720" y="2590920"/>
            <a:ext cx="121896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nt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rvo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5791320" y="2666880"/>
            <a:ext cx="1371600" cy="10670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ira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733920" y="2590920"/>
            <a:ext cx="17524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i-infecti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7848720" y="2666880"/>
            <a:ext cx="990360" cy="10670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3733920" y="4572000"/>
            <a:ext cx="182880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uinolon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Oval 12"/>
          <p:cNvSpPr/>
          <p:nvPr/>
        </p:nvSpPr>
        <p:spPr>
          <a:xfrm>
            <a:off x="2666880" y="464832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pi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ll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Oval 13"/>
          <p:cNvSpPr/>
          <p:nvPr/>
        </p:nvSpPr>
        <p:spPr>
          <a:xfrm>
            <a:off x="5715000" y="4572000"/>
            <a:ext cx="1143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pha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por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Oval 14"/>
          <p:cNvSpPr/>
          <p:nvPr/>
        </p:nvSpPr>
        <p:spPr>
          <a:xfrm>
            <a:off x="6934320" y="4572000"/>
            <a:ext cx="1143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icill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1523880" y="464832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ro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52280" y="4648320"/>
            <a:ext cx="106704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tra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cl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8077320" y="4572000"/>
            <a:ext cx="106668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ime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pri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rc 31"/>
          <p:cNvSpPr/>
          <p:nvPr/>
        </p:nvSpPr>
        <p:spPr>
          <a:xfrm flipH="1">
            <a:off x="1219320" y="3962520"/>
            <a:ext cx="3124080" cy="4572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rc 32"/>
          <p:cNvSpPr/>
          <p:nvPr/>
        </p:nvSpPr>
        <p:spPr>
          <a:xfrm flipH="1">
            <a:off x="2362320" y="3962520"/>
            <a:ext cx="2133360" cy="4572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rc 33"/>
          <p:cNvSpPr/>
          <p:nvPr/>
        </p:nvSpPr>
        <p:spPr>
          <a:xfrm flipH="1">
            <a:off x="3428280" y="3962520"/>
            <a:ext cx="1143000" cy="3808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Arc 34"/>
          <p:cNvSpPr/>
          <p:nvPr/>
        </p:nvSpPr>
        <p:spPr>
          <a:xfrm>
            <a:off x="4572000" y="3962520"/>
            <a:ext cx="1600200" cy="3808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rc 35"/>
          <p:cNvSpPr/>
          <p:nvPr/>
        </p:nvSpPr>
        <p:spPr>
          <a:xfrm>
            <a:off x="4572000" y="3962520"/>
            <a:ext cx="2819520" cy="4572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rc 36"/>
          <p:cNvSpPr/>
          <p:nvPr/>
        </p:nvSpPr>
        <p:spPr>
          <a:xfrm>
            <a:off x="4648320" y="3962520"/>
            <a:ext cx="3809880" cy="4572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4648320" y="38098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Arc 42"/>
          <p:cNvSpPr/>
          <p:nvPr/>
        </p:nvSpPr>
        <p:spPr>
          <a:xfrm flipH="1">
            <a:off x="1523160" y="2133720"/>
            <a:ext cx="3048120" cy="228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rc 43"/>
          <p:cNvSpPr/>
          <p:nvPr/>
        </p:nvSpPr>
        <p:spPr>
          <a:xfrm flipH="1">
            <a:off x="2894760" y="2133720"/>
            <a:ext cx="1676520" cy="228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rc 44"/>
          <p:cNvSpPr/>
          <p:nvPr/>
        </p:nvSpPr>
        <p:spPr>
          <a:xfrm>
            <a:off x="4572000" y="2133720"/>
            <a:ext cx="1905120" cy="3045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rc 45"/>
          <p:cNvSpPr/>
          <p:nvPr/>
        </p:nvSpPr>
        <p:spPr>
          <a:xfrm>
            <a:off x="4800600" y="2133720"/>
            <a:ext cx="3352680" cy="3045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46"/>
          <p:cNvSpPr/>
          <p:nvPr/>
        </p:nvSpPr>
        <p:spPr>
          <a:xfrm>
            <a:off x="4648320" y="2057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7238880" y="2971800"/>
            <a:ext cx="4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y Quinolones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stemic anti-bacterials (i.e., antibiotics) important in a country where infections a major cause of disea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life quality enhancing drugs, such as anti-depressants, Viagra, etc. will presumably be affected more by patents; however, less important from a public health policy perspectiv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tibiotics important in terms of revenue share in Indian market (#2 in revenues). Within antibiotics, quinolones one of the largest with 20.8 revenue sha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inolones belong to the latest generation of antibiotics. Drug of choice for most infe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ere should be many substitutes availa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ral quinolone products still under patent protection in the U.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7058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520" y="1371600"/>
            <a:ext cx="8572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idea behind our exercise: Imagine that patents had been enforced in India as they were enforced in the U.S. Simulate market outcome (we are not deriving the effects of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ctu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RIPS enforcement in 2005, since most patents had expired by then). But can get a sense of what the effects will be when important life-saving drugs are introduced in the future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34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hodological Approach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600" y="1218960"/>
            <a:ext cx="87249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licitly model consumer and firm behavi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tailed estimation of the demand and supply structures: own-price and cross-price elasticities and bounds on marginal cos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unter-factual analysis: price changes, consumer welfare losses, firm profit gains/loss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ompose consumer welfare losses into three component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83808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143000" y="1676520"/>
            <a:ext cx="3276720" cy="1447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Loss of Variety Effect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4648320" y="1981080"/>
            <a:ext cx="3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5257800" y="1981080"/>
            <a:ext cx="304812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enditure Switching Effe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572000" y="3048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2590920" y="5410080"/>
            <a:ext cx="4724280" cy="1067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mer Welfare Loss of TRI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3276720" y="3733920"/>
            <a:ext cx="33526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d Competition Eff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572000" y="4572000"/>
            <a:ext cx="56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: Demand Esti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73160" y="1062000"/>
            <a:ext cx="878040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wo-Stage Budgeting and AID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tural therapeutic categoriz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exible functional form and very general demand patter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be applied to both household-level data and market-level da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ite virtual pr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we Define a “Drug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3160" y="1062000"/>
            <a:ext cx="878040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ta is highly disaggregate: information at the SKU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fferentiate along two dimensions: molecule and nationa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ggregate over dosage forms: syrup, capsule, tablet; strength: 100 mg, 500 mg; packet size: 10 tablets, 24 tablet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ggregate over domestic / foreign firms: Ranbaxy, Cipla; Bayer, Glaxo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1026"/>
          <p:cNvSpPr/>
          <p:nvPr/>
        </p:nvSpPr>
        <p:spPr>
          <a:xfrm>
            <a:off x="3505320" y="1143000"/>
            <a:ext cx="25905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-bio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1027"/>
          <p:cNvSpPr/>
          <p:nvPr/>
        </p:nvSpPr>
        <p:spPr>
          <a:xfrm>
            <a:off x="380880" y="2362320"/>
            <a:ext cx="10670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icilli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1028"/>
          <p:cNvSpPr/>
          <p:nvPr/>
        </p:nvSpPr>
        <p:spPr>
          <a:xfrm>
            <a:off x="1676520" y="2362320"/>
            <a:ext cx="11430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roli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1029"/>
          <p:cNvSpPr/>
          <p:nvPr/>
        </p:nvSpPr>
        <p:spPr>
          <a:xfrm>
            <a:off x="2971800" y="2362320"/>
            <a:ext cx="9907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picill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1030"/>
          <p:cNvSpPr/>
          <p:nvPr/>
        </p:nvSpPr>
        <p:spPr>
          <a:xfrm>
            <a:off x="4191120" y="2438280"/>
            <a:ext cx="15238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inol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1031"/>
          <p:cNvSpPr/>
          <p:nvPr/>
        </p:nvSpPr>
        <p:spPr>
          <a:xfrm>
            <a:off x="5867280" y="2438280"/>
            <a:ext cx="9907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pha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pori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1032"/>
          <p:cNvSpPr/>
          <p:nvPr/>
        </p:nvSpPr>
        <p:spPr>
          <a:xfrm>
            <a:off x="8229600" y="243828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Oval 1033"/>
          <p:cNvSpPr/>
          <p:nvPr/>
        </p:nvSpPr>
        <p:spPr>
          <a:xfrm>
            <a:off x="838080" y="411480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m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p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Oval 1034"/>
          <p:cNvSpPr/>
          <p:nvPr/>
        </p:nvSpPr>
        <p:spPr>
          <a:xfrm>
            <a:off x="1752480" y="487692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p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Oval 1035"/>
          <p:cNvSpPr/>
          <p:nvPr/>
        </p:nvSpPr>
        <p:spPr>
          <a:xfrm>
            <a:off x="2971800" y="533412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f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Oval 1036"/>
          <p:cNvSpPr/>
          <p:nvPr/>
        </p:nvSpPr>
        <p:spPr>
          <a:xfrm>
            <a:off x="4419720" y="563868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f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Oval 1037"/>
          <p:cNvSpPr/>
          <p:nvPr/>
        </p:nvSpPr>
        <p:spPr>
          <a:xfrm>
            <a:off x="5867280" y="541008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Oval 1038"/>
          <p:cNvSpPr/>
          <p:nvPr/>
        </p:nvSpPr>
        <p:spPr>
          <a:xfrm>
            <a:off x="7086600" y="495288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Oval 1039"/>
          <p:cNvSpPr/>
          <p:nvPr/>
        </p:nvSpPr>
        <p:spPr>
          <a:xfrm>
            <a:off x="8077320" y="434340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1040"/>
          <p:cNvSpPr/>
          <p:nvPr/>
        </p:nvSpPr>
        <p:spPr>
          <a:xfrm>
            <a:off x="7086600" y="2438280"/>
            <a:ext cx="9907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imet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pri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1041"/>
          <p:cNvSpPr/>
          <p:nvPr/>
        </p:nvSpPr>
        <p:spPr>
          <a:xfrm flipH="1">
            <a:off x="1218960" y="1676520"/>
            <a:ext cx="19047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1044"/>
          <p:cNvSpPr/>
          <p:nvPr/>
        </p:nvSpPr>
        <p:spPr>
          <a:xfrm flipH="1">
            <a:off x="2437920" y="1905120"/>
            <a:ext cx="8384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1045"/>
          <p:cNvSpPr/>
          <p:nvPr/>
        </p:nvSpPr>
        <p:spPr>
          <a:xfrm flipH="1">
            <a:off x="3276720" y="19810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1046"/>
          <p:cNvSpPr/>
          <p:nvPr/>
        </p:nvSpPr>
        <p:spPr>
          <a:xfrm>
            <a:off x="4724280" y="2133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1047"/>
          <p:cNvSpPr/>
          <p:nvPr/>
        </p:nvSpPr>
        <p:spPr>
          <a:xfrm>
            <a:off x="5943600" y="19810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1048"/>
          <p:cNvSpPr/>
          <p:nvPr/>
        </p:nvSpPr>
        <p:spPr>
          <a:xfrm>
            <a:off x="6172200" y="1752480"/>
            <a:ext cx="129528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1049"/>
          <p:cNvSpPr/>
          <p:nvPr/>
        </p:nvSpPr>
        <p:spPr>
          <a:xfrm>
            <a:off x="6324480" y="1600200"/>
            <a:ext cx="2362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1050"/>
          <p:cNvSpPr/>
          <p:nvPr/>
        </p:nvSpPr>
        <p:spPr>
          <a:xfrm flipH="1">
            <a:off x="2057400" y="3505320"/>
            <a:ext cx="236232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1051"/>
          <p:cNvSpPr/>
          <p:nvPr/>
        </p:nvSpPr>
        <p:spPr>
          <a:xfrm flipH="1">
            <a:off x="2666880" y="3581280"/>
            <a:ext cx="18288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Line 1052"/>
          <p:cNvSpPr/>
          <p:nvPr/>
        </p:nvSpPr>
        <p:spPr>
          <a:xfrm flipH="1">
            <a:off x="3657600" y="3733920"/>
            <a:ext cx="91440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Line 1053"/>
          <p:cNvSpPr/>
          <p:nvPr/>
        </p:nvSpPr>
        <p:spPr>
          <a:xfrm>
            <a:off x="4800600" y="37339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1054"/>
          <p:cNvSpPr/>
          <p:nvPr/>
        </p:nvSpPr>
        <p:spPr>
          <a:xfrm>
            <a:off x="4952880" y="3733920"/>
            <a:ext cx="106704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055"/>
          <p:cNvSpPr/>
          <p:nvPr/>
        </p:nvSpPr>
        <p:spPr>
          <a:xfrm>
            <a:off x="5257800" y="3657600"/>
            <a:ext cx="18288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1056"/>
          <p:cNvSpPr/>
          <p:nvPr/>
        </p:nvSpPr>
        <p:spPr>
          <a:xfrm>
            <a:off x="5486400" y="3581280"/>
            <a:ext cx="251460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1058"/>
          <p:cNvSpPr/>
          <p:nvPr/>
        </p:nvSpPr>
        <p:spPr>
          <a:xfrm>
            <a:off x="1066680" y="457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wo-stage Budgeting Approa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93448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is it a highly contentious issu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ne side of the argument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tent enforcement in developing countries will lead to higher pri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idea of a better-ordered world is one in which medical discoveries will be free of patents and there will be no profiteering from life and death.”  [Indira Gandhi (1982)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Down Arrow 3"/>
          <p:cNvSpPr/>
          <p:nvPr/>
        </p:nvSpPr>
        <p:spPr>
          <a:xfrm>
            <a:off x="4648320" y="42670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Down Arrow 4"/>
          <p:cNvSpPr/>
          <p:nvPr/>
        </p:nvSpPr>
        <p:spPr>
          <a:xfrm>
            <a:off x="4419720" y="42670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Down Arrow 5"/>
          <p:cNvSpPr/>
          <p:nvPr/>
        </p:nvSpPr>
        <p:spPr>
          <a:xfrm>
            <a:off x="4648320" y="47242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Down Arrow 6"/>
          <p:cNvSpPr/>
          <p:nvPr/>
        </p:nvSpPr>
        <p:spPr>
          <a:xfrm>
            <a:off x="4572000" y="48769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Down Arrow 7"/>
          <p:cNvSpPr/>
          <p:nvPr/>
        </p:nvSpPr>
        <p:spPr>
          <a:xfrm>
            <a:off x="4572000" y="4419720"/>
            <a:ext cx="152280" cy="457200"/>
          </a:xfrm>
          <a:prstGeom prst="downArrow">
            <a:avLst>
              <a:gd name="adj1" fmla="val 50000"/>
              <a:gd name="adj2" fmla="val 500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Down Arrow 8"/>
          <p:cNvSpPr/>
          <p:nvPr/>
        </p:nvSpPr>
        <p:spPr>
          <a:xfrm>
            <a:off x="4648320" y="46483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Down Arrow 9"/>
          <p:cNvSpPr/>
          <p:nvPr/>
        </p:nvSpPr>
        <p:spPr>
          <a:xfrm>
            <a:off x="4724280" y="464832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Down Arrow 10"/>
          <p:cNvSpPr/>
          <p:nvPr/>
        </p:nvSpPr>
        <p:spPr>
          <a:xfrm>
            <a:off x="4572000" y="44197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Down Arrow 11"/>
          <p:cNvSpPr/>
          <p:nvPr/>
        </p:nvSpPr>
        <p:spPr>
          <a:xfrm>
            <a:off x="4572000" y="44197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Down Arrow 12"/>
          <p:cNvSpPr/>
          <p:nvPr/>
        </p:nvSpPr>
        <p:spPr>
          <a:xfrm>
            <a:off x="4876920" y="48769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Down Arrow 13"/>
          <p:cNvSpPr/>
          <p:nvPr/>
        </p:nvSpPr>
        <p:spPr>
          <a:xfrm>
            <a:off x="4495680" y="4419720"/>
            <a:ext cx="381240" cy="457200"/>
          </a:xfrm>
          <a:prstGeom prst="downArrow">
            <a:avLst>
              <a:gd name="adj1" fmla="val 50000"/>
              <a:gd name="adj2" fmla="val 499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Down Arrow 14"/>
          <p:cNvSpPr/>
          <p:nvPr/>
        </p:nvSpPr>
        <p:spPr>
          <a:xfrm>
            <a:off x="4876920" y="4343400"/>
            <a:ext cx="152280" cy="152280"/>
          </a:xfrm>
          <a:prstGeom prst="down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Down Arrow 15"/>
          <p:cNvSpPr/>
          <p:nvPr/>
        </p:nvSpPr>
        <p:spPr>
          <a:xfrm>
            <a:off x="4419720" y="449568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Down Arrow 16"/>
          <p:cNvSpPr/>
          <p:nvPr/>
        </p:nvSpPr>
        <p:spPr>
          <a:xfrm>
            <a:off x="4419720" y="4724280"/>
            <a:ext cx="46080" cy="381240"/>
          </a:xfrm>
          <a:prstGeom prst="downArrow">
            <a:avLst>
              <a:gd name="adj1" fmla="val 50000"/>
              <a:gd name="adj2" fmla="val 4964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Down Arrow 18"/>
          <p:cNvSpPr/>
          <p:nvPr/>
        </p:nvSpPr>
        <p:spPr>
          <a:xfrm>
            <a:off x="4876920" y="49528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Down Arrow 20"/>
          <p:cNvSpPr/>
          <p:nvPr/>
        </p:nvSpPr>
        <p:spPr>
          <a:xfrm>
            <a:off x="4724280" y="48006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Down Arrow 22"/>
          <p:cNvSpPr/>
          <p:nvPr/>
        </p:nvSpPr>
        <p:spPr>
          <a:xfrm>
            <a:off x="4495680" y="4876920"/>
            <a:ext cx="304920" cy="46080"/>
          </a:xfrm>
          <a:prstGeom prst="down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-12240" bIns="-1224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Down Arrow 23"/>
          <p:cNvSpPr/>
          <p:nvPr/>
        </p:nvSpPr>
        <p:spPr>
          <a:xfrm>
            <a:off x="4648320" y="48769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Down Arrow 35"/>
          <p:cNvSpPr/>
          <p:nvPr/>
        </p:nvSpPr>
        <p:spPr>
          <a:xfrm flipH="1">
            <a:off x="4114800" y="4191120"/>
            <a:ext cx="838080" cy="449280"/>
          </a:xfrm>
          <a:prstGeom prst="down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Interesting Patterns in th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 main molecu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mestic share in each case SUBSTANTIALLY larger than share of foreign subsidiar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mestic CIPRO by far the biggest (53% revenue share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et, prices of domestic products higher by ca. 10% (last 2 rows of the table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e als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large number of domestic firm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eign firms violate patent laws in India while respecting them in their own countr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ducts often introduced in India by Indian firms. Foreign firms follow years lat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l impression from these tables: Domestic drugs sell at a premium. Distribution networks and ease of access a possible explan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253800"/>
            <a:ext cx="86295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Quinolone Sub-Seg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8600" y="1828800"/>
          <a:ext cx="8724960" cy="3635280"/>
        </p:xfrm>
        <a:graphic>
          <a:graphicData uri="http://schemas.openxmlformats.org/drawingml/2006/table">
            <a:tbl>
              <a:tblPr/>
              <a:tblGrid>
                <a:gridCol w="1806480"/>
                <a:gridCol w="1728720"/>
                <a:gridCol w="1730520"/>
                <a:gridCol w="1728720"/>
                <a:gridCol w="1730520"/>
              </a:tblGrid>
              <a:tr h="5493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lecu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 (%) of sales of quinol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es (Rs. millions): 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esti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ign subsidiar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esti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ign subsidiar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537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profloxaci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0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90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floxac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490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loxac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90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arfloxac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304920" y="533520"/>
          <a:ext cx="8648640" cy="6140160"/>
        </p:xfrm>
        <a:graphic>
          <a:graphicData uri="http://schemas.openxmlformats.org/drawingml/2006/table">
            <a:tbl>
              <a:tblPr/>
              <a:tblGrid>
                <a:gridCol w="1715040"/>
                <a:gridCol w="173520"/>
                <a:gridCol w="1616040"/>
                <a:gridCol w="1715400"/>
                <a:gridCol w="1713600"/>
                <a:gridCol w="171504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profloxac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floxac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loxac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arfloxac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</a:tr>
              <a:tr h="18288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.S. or European patent-hol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y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tho-McNe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hone-Poulen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ear of U.S. patent expi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ear of US-FDA approv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26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ear first introduced in In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27468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. of domestic Indian fir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. of foreign subsidia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. of products of domestic fir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. of products of foreign subsidia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426600"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es weighted average price per-unit API of products produced by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mestic Indian fir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.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a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ign subsidia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8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 Demand Side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28240" y="1066320"/>
            <a:ext cx="8704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drive counterfactual simulation results and conclusi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large cross-price elasticities between domestic products with different molecules. In fact, some domestic products appear to be closer substitutes to one another, than domestic/foreign products containing the same molec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mestic Products closer substitutes to one another than to foreign products with the same chemical composition. Genuine empirical resul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sible Interpretation: Differences between domestic and foreign products in the distribution networks. The retail coverage of domestic firms (as a group) is much more comprehensive than that of multinational subsidiar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ite possible therefore that local pharmacies more likely to have in stock domestic products containing different molecules than they are domestic and foreign versions of the same molecu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Su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umers seem to prefer domestic to foreign products (as indicated by the higher prices and higher market shar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mestic Products close substitutes to one anoth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kely reasons for these pattern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74304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lay in launch of new products by multinational patent-holders in India, possibly due to reference pric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74304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ck of well developed distribution and marketing network by multinational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ortant policy implication: loss of variety as a result of patent protection likely to be substant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74304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w drugs will be available to Indian consumers with a del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74304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en after their launch, their distribution especially in rural areas may be lac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dence from other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general are the previous finding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direct evidence on consumer preferences in other countr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ever, evidence on firm/product entry from cross-country stud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wo studies particularly relevan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jouw (2005): 68 countries of all income levels and drug launches between 1982-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nzon and Epstein (2008): 15 countries and drug launches in 12 different therapeutic classes between 1992-200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dence from other countries (continu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in findings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unch timing is influenced by price regulation.  If price regulation  reduces prices, it contributes to launch dela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lobal reference pricing is particularly important here: Manufacturers delay launch in low-price countries to avoid undermining higher prices in other countries. Hence, referencing policies adopted in high-price countries impose welfare costs on low-price countri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ffect of IPR is ambiguo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ications for Welf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990360"/>
            <a:ext cx="8724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umer welfare losses are substantial: $400M when we remove all domestic quinolones from the market -- 65% of the sales of the entire anti-bacterial market in India in 200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umer welfare loss not that large as long as some domestic competition remains. Loss largest when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ll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mestic products disappear from the marke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iven by large cross-price elasticities across domestic produc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ubstantial fraction of the loss is due to the loss of product variety. Again, driven by large cross-price elasticities for domestic product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Corresponds to the case where strict price regulation would keep the prices at their pre-TRIPS leve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clusion: Price regulation alone not sufficient in order to mitigate the loss suffered by Indian consumer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ications for Welfare (continu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ces increase between 100% to 400%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ses to domestic firms pale in comparison: $50M per year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ay explain why domestic firms have been divided regarding TRIP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erate gains to foreign patent owners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ithout price regulation: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$53M per y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ith price regulation: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$19.6 per y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veloping a new drug costs $802M on average”, Mednews (2001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is the fuss about? Global reference pricing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Oval 2"/>
          <p:cNvSpPr/>
          <p:nvPr/>
        </p:nvSpPr>
        <p:spPr>
          <a:xfrm>
            <a:off x="1981080" y="2438280"/>
            <a:ext cx="1828800" cy="1143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m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lfare Lo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1828800" y="1295280"/>
            <a:ext cx="228600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s of variety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lsory licens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Line 4"/>
          <p:cNvSpPr/>
          <p:nvPr/>
        </p:nvSpPr>
        <p:spPr>
          <a:xfrm>
            <a:off x="2819520" y="2057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4343400" y="2209680"/>
            <a:ext cx="1600200" cy="1447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ubstantial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rice increase: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ubstitutes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within segment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mportant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6"/>
          <p:cNvSpPr/>
          <p:nvPr/>
        </p:nvSpPr>
        <p:spPr>
          <a:xfrm flipH="1">
            <a:off x="3885840" y="2895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057400" y="4038480"/>
            <a:ext cx="175248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effect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bigger than sum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f component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Line 8"/>
          <p:cNvSpPr/>
          <p:nvPr/>
        </p:nvSpPr>
        <p:spPr>
          <a:xfrm flipV="1">
            <a:off x="2895480" y="3657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324840" y="2438280"/>
            <a:ext cx="545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7315200" y="2438280"/>
            <a:ext cx="685800" cy="990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rm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fi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066680" y="106668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066680" y="1066680"/>
            <a:ext cx="7620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8686800" y="106668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Line 14"/>
          <p:cNvSpPr/>
          <p:nvPr/>
        </p:nvSpPr>
        <p:spPr>
          <a:xfrm flipH="1">
            <a:off x="1066320" y="5181480"/>
            <a:ext cx="7620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4890600" y="1219320"/>
            <a:ext cx="23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tal Welfare Lo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362320" y="5867280"/>
            <a:ext cx="304776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rease in R&amp;D unlike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5791320" y="6095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Oval 18"/>
          <p:cNvSpPr/>
          <p:nvPr/>
        </p:nvSpPr>
        <p:spPr>
          <a:xfrm>
            <a:off x="6934320" y="5638680"/>
            <a:ext cx="13716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rofit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crease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1066680" y="5562720"/>
            <a:ext cx="7620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20"/>
          <p:cNvSpPr/>
          <p:nvPr/>
        </p:nvSpPr>
        <p:spPr>
          <a:xfrm>
            <a:off x="8686800" y="55627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Line 21"/>
          <p:cNvSpPr/>
          <p:nvPr/>
        </p:nvSpPr>
        <p:spPr>
          <a:xfrm flipH="1">
            <a:off x="1066320" y="6629400"/>
            <a:ext cx="7620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Line 22"/>
          <p:cNvSpPr/>
          <p:nvPr/>
        </p:nvSpPr>
        <p:spPr>
          <a:xfrm flipV="1">
            <a:off x="1066680" y="556236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is it a highly contentious issue?</a:t>
            </a:r>
            <a:br>
              <a:rPr sz="2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continue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other side of the argument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“‘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gh priced medicines after change in patent laws is a misconception.”   [Organization of Pharmaceutical Producers of India]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IPS compliant patent laws attract foreign R&amp;D investment in developing countries, and promote technology transfer. 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tents may provide incentives for research on developing-country specific disease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cy Implica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4864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Substantial loss of consumer welfare from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reduction in product variet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—more than 50% of overall losses under most scenar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Suggests  possible role for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ompulsory licen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ounterargument: If the value of product variety derives from coverage of distribution networks and associated ease of access, this component of consumer welfare loss may b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transi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with India recognizing patents, MNC subsidiaries may invest in expanding distribution 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But: Incentives to undertake such investments will be small as long as the market remains small. Price controls will further reduce incentiv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Incentive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les of Bayer’s ciprofloxacin:              $1.6 billion in 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fit of Bayer’s ciprofloxacin:              $640 million in 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tal revenue in the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NTI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ti-bacterials segment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India:     $610 million in 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e: The profit calculation assumes as 40% markup, which is standard in this indust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52280" y="1066320"/>
            <a:ext cx="8801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ent debate has focused 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pr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R&amp;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r research points to another issu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istribution and marketing of EXISTING produ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over ti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over space (rural versus urban in particul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Big Ques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ll patent enforcement change the supply side of the marke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entives of multinationals to invest in distribution networks and marketing in developing country market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int Ventures with domestic firms? Licens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, what has happened since 2005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idence is VERY prelimin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ent work by Arora, Branstetter and Chatterjee(2008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iking Increase in R&amp;D intensity of Indian pharmaceutical firm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particular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 in absolute R&amp;D expendit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 in R&amp;D intens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 in measures of research outp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 in stock market valuation of Indian firms’ R&amp;D invest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, what has happened since 2005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evidence that the above developments are driven by “independent innovation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new produ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evidence of R&amp;D collaboration between Indian and Western firms (with few excepti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stion: Where did the R&amp;D expenditures g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swer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cess and not product innov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les of generic products abroad: Explosion of export acti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ract manufactu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, what has happened since 2005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Big benefit of TRIPS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opened up to Indian firms foreign markets for TRIPS-legal imitations – the generics market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 the same time Oxford Analytica report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44316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aints that price controls undermine the growth strategy of the pharmaceutical indust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44316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2005 number of new drug products introduced to the domestic market fell by 50%. Their contribution to total sales was just 1%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44316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ustry confined to re-processing of international drugs patented before 199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44316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cause of TRIPS, no new generic drug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44316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eign firms are slow to introduce new products; little interest in its small scale opportun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44316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an firms seem to have benefited from TRIPS, but mainly through expo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isks to Indian consumers re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research into the distribution of new drugs in India and other developing countries necessa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so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 they reach poor rural area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haps the hardest question: Welfare implications of distribu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 we want new drugs to reach uninformed consumer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ANK YOU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is of this ta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990720"/>
            <a:ext cx="895356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ing arguments reflect the trade-off between static efficiency loss (higher prices) and potential dynamic gains (research, new product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t: Higher prices are unlikely to materialize because of price regu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ynamic gains also unlikely. Developing country markets too small to change research priorities of pharmaceutical concer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tentially largest effect on distribution and availability of new products in the developing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ribution over time (launch of new drug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ribution over space (rural versus urba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n what is the fuss abou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lobal reference pric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ng-run concerns about exports from developing marke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ad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3160" y="1216080"/>
            <a:ext cx="87804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oretical arguments regarding IPR in developing count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hallenges on the empirical s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makes developing countries special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ssons from a Case Study: India and Quinolones (newer generation of antibiotic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alyze patterns in the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ose structure to estimate welfare effe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 the results generalize? Some cross-country evid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icy im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has happened since new patent legislation was signed in 2005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ight Arrow 3"/>
          <p:cNvSpPr/>
          <p:nvPr/>
        </p:nvSpPr>
        <p:spPr>
          <a:xfrm>
            <a:off x="3809880" y="33526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oretical Argu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90080" y="990720"/>
            <a:ext cx="89535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andard analysis of patents in the closed econom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ic (short-term) pricing distor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ynamic (longer-term) innovation ga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timal policy equates the marginal static efficiency loss to the marginal dynamic benefit (Nordhaus 1969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mplications in multi-country sett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e: Most trade economists not in favor of TRI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2240" y="253800"/>
            <a:ext cx="874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oretical Arguments (continu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damental Externality: Benefits of innovation are spread beyond national boundaries. Countries differ in their capacity for innovation because of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kill endowment and technical know-h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lative size of domestic mar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Patent Length Harmonization (PLH) a necessary condition for global efficiency? Global Efficiency: Regime that provides the optimal aggregate incentives for innovation throughout th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swer: NO (Grossman and Lai [2003]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ever: PLH has important implication for the distribution of         welfare between developed and developing countri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lobal Reference Pric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rther complications with differentiated products such as pharmaceuticals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254160"/>
            <a:ext cx="870588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the Empirical Side …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600" y="1066320"/>
            <a:ext cx="8724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few empirical studies on drugs in developing countr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guments based on assumptions, rather than estimated parameters. Main limitations of this approach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mestic and foreign products ar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ssum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be perfect substitutes. Any welfare losses associated with patent enforcement stem from price increases of foreign products alon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Tahoma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stitution towards other drugs and therapeutic segments igno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k on pharmaceutical markets in developed countries (plenty of papers) not pertinent to the TRIPS debate, because developing countries differ from developed countries in five critical respect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9:11:28Z</dcterms:created>
  <dc:creator>Nina_Pavcnik</dc:creator>
  <dc:description/>
  <dc:language>en-US</dc:language>
  <cp:lastModifiedBy>Jodi</cp:lastModifiedBy>
  <dcterms:modified xsi:type="dcterms:W3CDTF">2009-08-23T14:30:55Z</dcterms:modified>
  <cp:revision>1968</cp:revision>
  <dc:subject/>
  <dc:title>Slide 1</dc:title>
</cp:coreProperties>
</file>