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73B02-0534-407C-81BC-AF51F448DE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07E89-DD62-43BC-A6DE-572647927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9840" y="0"/>
            <a:ext cx="2947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9640" y="86688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18160"/>
            <a:ext cx="49802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8D2-7DC9-441A-BAE8-FF8EDA4A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63D-EDAF-40D9-91A4-A607A5EA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D4A-A7FE-4AE2-AD2A-591AA35A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34F-4DFE-4D25-9AE6-8DC527C1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ED2-2900-4E84-8766-82F3B35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B86-4FEF-4162-AE8C-00B932D5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786-2599-4617-9535-8F8510C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02C-84ED-48AB-87FC-FDDC949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699-28B6-4E4B-B808-BE7A971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551-34F4-4E33-950F-8FB55BB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9E8-BD8E-40E9-BFB4-84E07CE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72E-74FD-4127-B58C-B1BAC08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0"/>
            <a:ext cx="21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5521-9BB1-4159-B460-4ADF20179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3111480"/>
            <a:ext cx="2360880" cy="236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622440"/>
            <a:ext cx="829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 Great Moderation, the Great Panic and the Great Con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352680"/>
            <a:ext cx="4038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1994040"/>
            <a:ext cx="5133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lie B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uty Governor, Bank of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7560" y="5537160"/>
            <a:ext cx="750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celona, 25 August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. Real house prices &amp; current account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04960" y="1077840"/>
            <a:ext cx="7153200" cy="499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38040" y="6056280"/>
            <a:ext cx="324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ank for International Sett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401200"/>
            <a:ext cx="904248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6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+λ)R</a:t>
            </a:r>
            <a:r>
              <a:rPr b="0" lang="en-GB" sz="6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λR</a:t>
            </a:r>
            <a:r>
              <a:rPr b="0" lang="en-GB" sz="6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0. Defaults on US sub-prime mortgage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 rate by cohort of ori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22600" y="1300320"/>
            <a:ext cx="52783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1. Pay-offs &amp; prices on CDO tranch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4480" y="1725480"/>
            <a:ext cx="3757680" cy="3407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05200" y="1871640"/>
            <a:ext cx="3915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2. CDS spreads for major financial institution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247760"/>
            <a:ext cx="6202440" cy="4807080"/>
          </a:xfrm>
          <a:prstGeom prst="rect">
            <a:avLst/>
          </a:prstGeom>
          <a:ln w="0">
            <a:noFill/>
          </a:ln>
        </p:spPr>
      </p:pic>
      <p:sp>
        <p:nvSpPr>
          <p:cNvPr id="96" name="TXT2"/>
          <p:cNvSpPr/>
          <p:nvPr/>
        </p:nvSpPr>
        <p:spPr>
          <a:xfrm>
            <a:off x="1231920" y="6006960"/>
            <a:ext cx="551196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Mark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) Five-year senior CDS prem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31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3. The Great Panic: the flight to quality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read between US Treasuries and Eurodolla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79640" y="1322280"/>
            <a:ext cx="6362640" cy="482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24080" y="611964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loom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4. Expected losses get bigger &amp; bigger…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sector writedowns on US originated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2658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1800" y="304920"/>
            <a:ext cx="7556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5. The Great Contraction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998640"/>
            <a:ext cx="6880320" cy="516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61160" y="5979960"/>
            <a:ext cx="29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IMF World Economic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31640"/>
            <a:ext cx="77724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6. UK financial network in 2007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ss bilateral exp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434960"/>
            <a:ext cx="6340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9440"/>
            <a:ext cx="8178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7. International financial network in 2005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rnal assets + external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11080" y="1741320"/>
            <a:ext cx="6950160" cy="4618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35640" y="616284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IS, IMF, OECD, UNCTAD and Kubelec and Sa (2009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7320" y="329760"/>
            <a:ext cx="76708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International credit expansion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liabilities of household and busines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% of G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89120"/>
            <a:ext cx="4444920" cy="36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17000" y="5205240"/>
            <a:ext cx="30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Federal Reserve, Flow of Fu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4280" y="520524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OE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11720" y="1762200"/>
            <a:ext cx="4514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483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8. Total output loss in slowdowns &amp; recession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ans, %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18920" y="1557360"/>
            <a:ext cx="5786640" cy="3907080"/>
            <a:chOff x="1618920" y="1557360"/>
            <a:chExt cx="5786640" cy="3907080"/>
          </a:xfrm>
        </p:grpSpPr>
        <p:sp>
          <p:nvSpPr>
            <p:cNvPr id="112" name=""/>
            <p:cNvSpPr/>
            <p:nvPr/>
          </p:nvSpPr>
          <p:spPr>
            <a:xfrm>
              <a:off x="1819080" y="1635120"/>
              <a:ext cx="5586480" cy="37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19080" y="1635120"/>
              <a:ext cx="5586480" cy="37544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8040" y="1635120"/>
              <a:ext cx="843120" cy="210996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5680" y="1635120"/>
              <a:ext cx="844560" cy="121140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73600" y="1635120"/>
              <a:ext cx="844560" cy="328788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62680" y="1635120"/>
              <a:ext cx="842760" cy="1711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19080" y="1635120"/>
              <a:ext cx="1800" cy="375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85960" y="53895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5960" y="46339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85960" y="38894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85960" y="313524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85960" y="239076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5960" y="163512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18920" y="53118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4556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8920" y="38116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18920" y="30574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8920" y="2313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3200" y="1557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76720" y="5877000"/>
            <a:ext cx="129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t 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58770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5877000"/>
            <a:ext cx="129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58770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t preceded by financial st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551664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owdow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551664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c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638172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 IMF WEO Octo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483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9. Central bank balance 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5400" y="6170760"/>
            <a:ext cx="39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Federal Reserve, ECB and Bank of Eng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0560" y="1128600"/>
            <a:ext cx="40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entral Bank total liabilities (index: Aug. 2007 = 1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12720" y="1320840"/>
            <a:ext cx="576108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78240" y="2895480"/>
            <a:ext cx="2360520" cy="2362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711360"/>
            <a:ext cx="702468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 Moderation, the Great Pan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Great Contractio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352680"/>
            <a:ext cx="4038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1955880"/>
            <a:ext cx="51339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905440"/>
            <a:ext cx="7024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ww.bankofengland.co.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113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 Financial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6120" y="1971720"/>
            <a:ext cx="3949560" cy="3740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1960" y="5784840"/>
            <a:ext cx="199404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 Dealog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43560" y="5902200"/>
            <a:ext cx="4600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 Bank for International Sett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)  Notional principal of outstanding credit default swa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6120" y="151128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-balance-sheet issu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84600" y="1486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of CDS out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1400" y="1951200"/>
            <a:ext cx="40258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 Real house price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0040" y="1257480"/>
            <a:ext cx="5499000" cy="495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03160" y="6018120"/>
            <a:ext cx="31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ank for International Sett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93840"/>
            <a:ext cx="75438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. The Great Moderation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put and inflation volatility in the G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3840" y="1319040"/>
            <a:ext cx="5905440" cy="456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1000" y="575136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. The Great Moderation and risk perception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d volatilities from options – standardised to zero mean and unit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35080" y="1547640"/>
            <a:ext cx="6789600" cy="4346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58720" y="572616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loomberg and Bank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 Overly Loose Monetary Policy?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iation of policy rates from Taylor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5920" y="616752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OE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5760" y="1320840"/>
            <a:ext cx="67294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7. Global imbalance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accounts (% of GDP, 5-year rolling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83200" y="6167520"/>
            <a:ext cx="25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IMF and national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01920" y="1393920"/>
            <a:ext cx="6288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. Long-term real interest rate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l 8.5 year government forward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82720" y="1311120"/>
            <a:ext cx="5845320" cy="494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92120" y="6043680"/>
            <a:ext cx="32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Bloomberg and Bank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7:46:28Z</dcterms:created>
  <dc:creator>dre</dc:creator>
  <dc:description/>
  <dc:language>en-US</dc:language>
  <cp:lastModifiedBy>Bean</cp:lastModifiedBy>
  <cp:lastPrinted>2002-11-13T09:35:53Z</cp:lastPrinted>
  <dcterms:modified xsi:type="dcterms:W3CDTF">2009-08-24T10:49:19Z</dcterms:modified>
  <cp:revision>6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18818280</vt:r8>
  </property>
  <property fmtid="{D5CDD505-2E9C-101B-9397-08002B2CF9AE}" pid="3" name="_AuthorEmail">
    <vt:lpwstr>Denise.Rayner@bankofengland.gsi.gov.uk</vt:lpwstr>
  </property>
  <property fmtid="{D5CDD505-2E9C-101B-9397-08002B2CF9AE}" pid="4" name="_AuthorEmailDisplayName">
    <vt:lpwstr>Rayner, Denise</vt:lpwstr>
  </property>
  <property fmtid="{D5CDD505-2E9C-101B-9397-08002B2CF9AE}" pid="5" name="_EmailSubject">
    <vt:lpwstr>Your invitation to EEA-ESEM 2009</vt:lpwstr>
  </property>
</Properties>
</file>