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6EC66-A772-489A-B057-043DEC1D8A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F6792-05C7-4093-A58C-26E860CC2C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9840" y="0"/>
            <a:ext cx="2947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9640" y="86688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18160"/>
            <a:ext cx="49802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737-EDE7-451E-84A9-2AB05AB7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629-C73A-4F75-9111-56129E4D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801-1494-45FF-8696-E67A065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482-9FE2-4452-9D59-B040B258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570-B8E7-40DF-B576-01FB5E8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29-177B-498E-8D97-9CC74DC5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81B-B54F-4265-9DFA-15F411C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12B-0425-4E8F-851C-1ECB5A8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846-9BFD-4335-AFB7-EFB4DD9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995-A892-4554-9CA8-47D021C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FAE-E97B-478F-811D-EA80661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CC8-153D-44A8-BFED-3DC3EBD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0"/>
            <a:ext cx="21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46E-BB06-4886-AC0E-DEAFFA8B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3111480"/>
            <a:ext cx="2360880" cy="236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622440"/>
            <a:ext cx="829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 Great Moderation, the Great Panic and the Great Con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352680"/>
            <a:ext cx="4038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1994040"/>
            <a:ext cx="513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lie B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uty Governor, Bank of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7560" y="5537160"/>
            <a:ext cx="750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celona, 25 August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. Real house prices &amp; current account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4960" y="1077840"/>
            <a:ext cx="7153200" cy="499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38040" y="6056280"/>
            <a:ext cx="32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ank for International Sett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401200"/>
            <a:ext cx="904248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+λ)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λ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0. Defaults on US sub-prime mortgag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 rate by cohort of ori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22600" y="1300320"/>
            <a:ext cx="5278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1. Pay-offs &amp; prices on CDO tranch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4480" y="1725480"/>
            <a:ext cx="3757680" cy="3407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05200" y="1871640"/>
            <a:ext cx="391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2. CDS spreads for major financial institution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247760"/>
            <a:ext cx="6202440" cy="4807080"/>
          </a:xfrm>
          <a:prstGeom prst="rect">
            <a:avLst/>
          </a:prstGeom>
          <a:ln w="0">
            <a:noFill/>
          </a:ln>
        </p:spPr>
      </p:pic>
      <p:sp>
        <p:nvSpPr>
          <p:cNvPr id="96" name="TXT2"/>
          <p:cNvSpPr/>
          <p:nvPr/>
        </p:nvSpPr>
        <p:spPr>
          <a:xfrm>
            <a:off x="1231920" y="6006960"/>
            <a:ext cx="55119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Mark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) Five-year senior CDS prem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31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3. The Great Panic: the flight to quality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ead between US Treasuries and Eurodolla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9640" y="1322280"/>
            <a:ext cx="6362640" cy="48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24080" y="611964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4. Expected losses get bigger &amp; bigger…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sector writedowns on US originat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1800" y="304920"/>
            <a:ext cx="7556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5. The Great Contraction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998640"/>
            <a:ext cx="6880320" cy="516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61160" y="5979960"/>
            <a:ext cx="29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IMF World Economic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31640"/>
            <a:ext cx="77724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6. UK financial network in 2007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ss bilateral exp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434960"/>
            <a:ext cx="6340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944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7. International financial network in 2005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 assets + extern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11080" y="1741320"/>
            <a:ext cx="6950160" cy="4618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5640" y="616284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IS, IMF, OECD, UNCTAD and Kubelec and Sa (2009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7320" y="329760"/>
            <a:ext cx="76708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International credit expansion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liabilities of household and busines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% of G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4444920" cy="36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17000" y="520524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Federal Reserve, Flow of 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280" y="520524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11720" y="1762200"/>
            <a:ext cx="4514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83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. Total output loss in slowdowns &amp; recessio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ns, %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18920" y="1557360"/>
            <a:ext cx="5786640" cy="3907080"/>
            <a:chOff x="1618920" y="1557360"/>
            <a:chExt cx="5786640" cy="3907080"/>
          </a:xfrm>
        </p:grpSpPr>
        <p:sp>
          <p:nvSpPr>
            <p:cNvPr id="112" name=""/>
            <p:cNvSpPr/>
            <p:nvPr/>
          </p:nvSpPr>
          <p:spPr>
            <a:xfrm>
              <a:off x="1819080" y="1635120"/>
              <a:ext cx="5586480" cy="37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19080" y="1635120"/>
              <a:ext cx="5586480" cy="37544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8040" y="1635120"/>
              <a:ext cx="843120" cy="210996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5680" y="1635120"/>
              <a:ext cx="844560" cy="12114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3600" y="1635120"/>
              <a:ext cx="844560" cy="328788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2680" y="1635120"/>
              <a:ext cx="842760" cy="1711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19080" y="1635120"/>
              <a:ext cx="1800" cy="375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85960" y="53895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5960" y="46339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85960" y="38894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13524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85960" y="23907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5960" y="16351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8920" y="53118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4556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8920" y="38116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18920" y="30574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8920" y="2313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3200" y="155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76720" y="587700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 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5877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587700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5877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 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551664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owdow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551664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c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638172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IMF WEO Octo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83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9. Central bank balance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5400" y="6170760"/>
            <a:ext cx="39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Federal Reserve, ECB and Bank of 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0560" y="1128600"/>
            <a:ext cx="40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entral Bank total liabilities (index: Aug. 2007 = 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12720" y="1320840"/>
            <a:ext cx="576108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78240" y="2895480"/>
            <a:ext cx="236052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711360"/>
            <a:ext cx="70246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 Moderation, the Great Pan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Great Contractio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352680"/>
            <a:ext cx="4038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955880"/>
            <a:ext cx="51339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905440"/>
            <a:ext cx="702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ww.bankofengland.co.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11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 Financial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6120" y="1971720"/>
            <a:ext cx="3949560" cy="374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1960" y="5784840"/>
            <a:ext cx="199404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Dealog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43560" y="5902200"/>
            <a:ext cx="4600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Bank for International Sett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)  Notional principal of outstanding credit default swa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6120" y="151128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-balance-sheet issu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84600" y="1486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of CDS out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1400" y="1951200"/>
            <a:ext cx="40258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 Real house price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0040" y="1257480"/>
            <a:ext cx="5499000" cy="495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03160" y="6018120"/>
            <a:ext cx="31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ank for International Sett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93840"/>
            <a:ext cx="75438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. The Great Moderation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 and inflation volatility in the 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3840" y="1319040"/>
            <a:ext cx="5905440" cy="456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1000" y="575136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. The Great Moderation and risk perception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d volatilities from options – standardised to zero mean and uni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35080" y="1547640"/>
            <a:ext cx="6789600" cy="43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58720" y="572616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 and Bank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 Overly Loose Monetary Policy?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iation of policy rates from Taylor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5920" y="616752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5760" y="1320840"/>
            <a:ext cx="6729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. Global imbalanc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accounts (% of GDP, 5-year rolling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83200" y="616752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IMF and national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01920" y="1393920"/>
            <a:ext cx="6288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. Long-term real interest rat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l 8.5 year government forward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82720" y="1311120"/>
            <a:ext cx="5845320" cy="49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92120" y="604368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 and Bank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7:46:28Z</dcterms:created>
  <dc:creator>dre</dc:creator>
  <dc:description/>
  <dc:language>en-US</dc:language>
  <cp:lastModifiedBy>Bean</cp:lastModifiedBy>
  <cp:lastPrinted>2002-11-13T09:35:53Z</cp:lastPrinted>
  <dcterms:modified xsi:type="dcterms:W3CDTF">2009-08-24T10:49:19Z</dcterms:modified>
  <cp:revision>6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18818280</vt:r8>
  </property>
  <property fmtid="{D5CDD505-2E9C-101B-9397-08002B2CF9AE}" pid="3" name="_AuthorEmail">
    <vt:lpwstr>Denise.Rayner@bankofengland.gsi.gov.uk</vt:lpwstr>
  </property>
  <property fmtid="{D5CDD505-2E9C-101B-9397-08002B2CF9AE}" pid="4" name="_AuthorEmailDisplayName">
    <vt:lpwstr>Rayner, Denise</vt:lpwstr>
  </property>
  <property fmtid="{D5CDD505-2E9C-101B-9397-08002B2CF9AE}" pid="5" name="_EmailSubject">
    <vt:lpwstr>Your invitation to EEA-ESEM 2009</vt:lpwstr>
  </property>
</Properties>
</file>